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jpeg" ContentType="image/jpeg"/>
  <Override PartName="/ppt/media/image25.wmf" ContentType="image/x-wmf"/>
  <Override PartName="/ppt/media/image27.jpeg" ContentType="image/jpeg"/>
  <Override PartName="/ppt/media/image16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3BDA-9CC2-473A-9C63-A8B991419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743D-D6B9-418E-97F9-41D548762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FD16-9BDF-4352-B497-E4E8AF2A40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30E02-6CA1-48A5-BEA2-ECD274DD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DCAC7-2787-4CCE-8772-3525F639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5C809-ABC0-4B05-A744-8C9A7454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D03AA-9E26-497B-80E4-C8B5429B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123E3-5CCD-46E8-9CDA-AFF25DE4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2259B-DE1B-4FB4-8C21-CC7357E9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D2A03-8FD2-47CF-951E-26E7C81C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17D53-5901-4910-92C7-E03F6E7B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E7645-37CC-43AD-9AB0-D9A555A7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D2AD2-7632-459F-8117-76B57CD0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7D2B6-3D6B-4612-9EB4-019F4A62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7B85-C048-4DCF-AF94-B835D1B6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E4FFC-B581-48B7-95AA-870C489F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A8D63-137F-43F4-A77E-C908BC17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D17C1-4BD7-466F-A39E-3399E330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0BEEB-3E80-4222-AA45-BBB42B57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ED590-4003-4600-9E3F-260370BE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FCED6-4219-4291-A652-1791CDCE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2CDB4-C15E-43BE-8862-166D93CF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392F1-F3F5-41FD-895A-280ABE50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7041B-47D0-4456-8319-45178CDD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21E9E-5911-4F97-915D-29B780F3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1ADF-3BDF-4F80-80B4-98E5E6C246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8BF6F-0D26-47B9-8528-D523C7C0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F31FAB-3AAE-4DDB-AA8B-4FABA091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8A1920-453F-44DE-B13C-C4117307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EE5A57-4AAA-4695-83E4-CAAD1643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CADB68-05A4-4495-8238-2AD8BC00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DD9AAD-13C2-4A17-8AC2-DD02EE37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C73DA2-7454-4CC0-A755-A79BEE7A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B96C37-2EEA-4F00-9837-6E87D346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F894D0-534A-43C8-89BB-AF8CAC45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7AEA2D-28D5-4FE4-A9D8-082A6B88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1F010-DA9F-40B9-BF2B-732C09FA85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13355C-B435-450B-833C-4B4BCC6B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00CE3E-B5D4-44A4-A872-5AF5AAE8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CFF703-4DFE-4351-94BE-E894FF1F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90571-A694-4DA4-AD71-305C152A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29FBD-F1F0-45F5-82C3-2EF5BE1D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26124-2966-47E5-AB09-6A021267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615CE-BAB9-4E94-B12A-4D756AD7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ACB4D-6A62-4770-AE2B-54ACE189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C620A-BE60-414A-95CB-35F004D5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D3BC-4CA8-4928-92AD-F2F298C2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7C45B-CDC3-4AB4-AC06-8D54147C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BE1C4-2DCE-4D8D-B2F3-AA87B98B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A95DF-F241-4CCE-84FA-803A697E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1ACAB-A5AB-4D59-A27D-861E8C25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67D79-9566-4629-B885-4EF6A9090A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267A36-2AAB-47E5-A55E-A42A1018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404351-FA8A-498C-9343-D72B9888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1DE1C-47A8-459C-A512-B71E531D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9AB457-4E66-4CBF-9305-09549E43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8E7E36-DBCF-4A64-AD63-050B8E99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62BC-4C36-46B7-B647-2AF6FE3B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1ADA1F-2DA0-489A-899E-2B171E4B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E3F8DB-1A5D-4095-8FCE-9BD3006E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D1EC2C-4CB0-4396-B821-782D0EC1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43B4E6-4BE2-4458-8408-AD16F14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4C6AA3-7A8D-4A69-AA1E-C8CEC040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DA3300-C0BC-4602-B0D4-FE86EE12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9EDD74-B3D7-4FC4-BA75-AAA54667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0407B-854B-4A23-9F83-F014D3DD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44CED8-0DF5-49BE-A596-2712CBBC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9602CC-3BC1-42D8-89C2-A0BC9FFE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1C561-3DF9-4786-9D34-B3C5495B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D6CA92-4E0C-4F0D-A121-51885714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8F2139-820D-49F3-B70C-AF98FA2F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7B531-EAAD-47B3-8E91-7F0E8EE0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2296C0-B63E-4A72-A3F9-9D994D9B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F93473-975B-43FC-83FD-F016A330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45E424-1333-442E-8591-E7CCEFA4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C1FDF0-BE3A-4E4D-87AC-05D17F16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F20E7A-3D97-49FD-8CD7-AB7E4911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D12D02-C3BF-4664-B597-C69F52B7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0B01AC-4BB1-4813-B7CA-0C4DE256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C6AB-EEDD-48CB-8D3F-6C0A583C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68089B-E532-468B-A8FD-DA7CA083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7C72F3-A29B-4A66-B0C7-C789E2AE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EC7CB0-A1E8-4A4A-935B-043937F5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1A9D16-209D-4AD6-960F-66FB7D63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1A67F9-97D9-40D5-BF04-EC17FFDC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0AA93C-0F65-4F5A-B428-93486CA2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EDC03D-0359-4194-9848-6588B0A0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3509C2-A95E-4898-8FB2-63C9E36B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58D328-BE56-4ED8-953B-D335D5D1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46A376-DF9B-4DFA-8184-FEE4458A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7CC2-1CA2-49B7-B81A-3EDB40A3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E0D6E4-D948-44D6-9CD9-BBFBBBF9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2B8D6E-CE24-41E2-AC4F-515772BA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5A4D5C-6784-45EB-BBE7-21375824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E23E35-7F2D-4DBE-8BB0-3D5CE860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0C7D4F-A0E4-467E-B05E-15B4C874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11DC14-EBF6-49FC-AB59-9420F865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7BBC37-5038-4966-B457-612140B0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23A5DE-47EF-4FFE-AD3B-ADBA3CA5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A63FDA-FD75-4765-ACA5-95A1E70D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8EA5CB-68F6-4C65-80EB-E534D7AD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9F3CC-AB49-4357-8556-6496E2BC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34A802-3655-48F9-9FFE-C18AE479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81E2AF-70C8-479B-BC6C-55B810CF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9A477F-BEC3-4557-8375-19451A60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D76758-5C84-4D05-8220-C40BD705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69A251-00E4-4ADF-AA7E-883BAA6A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CA993B-69AB-475E-9879-C5A9E97F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ED6748-4A3D-436F-BD8D-819BF608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30EC75-6B7B-4674-A098-BA255CC2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D18403-F924-4384-B08E-DE510D29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6A0C19-EDED-4630-9722-1D1292DD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8A59C-9DF8-4DAD-9D45-88F50B4C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806F6B-35A8-47EA-918D-8BAB4AD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555CA0-448F-427E-BE24-FBD58CD4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8B3D65-5938-48C3-AA0F-399F18BA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D5649B-348E-4616-A5C9-CF21AC72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361E25-54A3-4250-9896-6E5AB5BB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81C934-87F7-450A-BD6F-258596A8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8F5C68-BCF8-4478-88E6-990DD135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A1F678-A597-481B-B773-C30F9F38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9A8D6E-7256-40CD-8AC9-8386B9F7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22372D-B53A-413B-A289-F017AF11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ADBA7-4BE8-4B54-93AF-8A14F6C6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E20F73-E474-4AFE-B47E-6A5BF77C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B1ED10-F045-458C-BE44-38A88D12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17F651-3ACA-4427-9A7E-4CF9C8BD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443DAE-1C21-4F3A-ACE9-25B66330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DCCE0A-F5B0-498D-8A35-93C26D11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E8A01F-C8E7-42CE-AEB7-88FD4D20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5A2AB7-F753-4E67-B70F-42604501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AE22C-9823-41BE-BB09-8ACB1EF8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B3DC0-B69B-4F4D-AB64-5C40FF24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293B9-DEB2-48A6-B92E-E080B2AC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70C9-36F5-4C67-B89E-756552FF2E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305F-5B1D-4BC1-A18F-50A0464E9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7945-3EE4-4B82-BAAC-D223DC36A2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BC19-D629-4B8B-BBA1-6EA11651E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F939-73DF-41C4-B6A8-2F6515B689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E803-537F-4105-8B55-353789243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4C70-FDF3-44AF-BFBA-491ADAF350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64F9-8283-40C7-B80F-E0CD9F1CE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D8B7-21A1-4F9C-9866-574427A8B5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8AD9-FCE7-46D2-8FA7-6C9383F88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ECCE-EA28-4144-920E-E43032551F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3169-1D5F-4B2B-8BB1-9E172C385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6840-F014-4477-A9C8-A0B405CD68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6005-5546-4D24-9302-9DBFF8813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32EA-1E74-4C4B-AB4C-6D03685978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5033-E03A-4291-B9AD-ECB1628DF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90A9-3AE6-48F1-A165-D7584154FB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DD88-4F67-4628-8CBD-256A8B7FA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B5EA-A023-4D35-B4DC-F35B4101BA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56B1-74B0-4B5E-AE5F-51EBF4333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D008-564B-4418-A339-130669C850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D934-202E-483E-9E42-56037DCBA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5" descr="UE+EFS_L-kolor"/>
          <p:cNvPicPr/>
          <p:nvPr/>
        </p:nvPicPr>
        <p:blipFill>
          <a:blip r:embed="rId2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  <p:sp>
        <p:nvSpPr>
          <p:cNvPr id="460" name="Tytuł 1"/>
          <p:cNvSpPr/>
          <p:nvPr/>
        </p:nvSpPr>
        <p:spPr>
          <a:xfrm>
            <a:off x="0" y="121428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Sytuacja i oczekiwan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pracodawców w powiec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olsztyńsk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"/>
          <p:cNvPicPr/>
          <p:nvPr/>
        </p:nvPicPr>
        <p:blipFill>
          <a:blip r:embed="rId3"/>
          <a:stretch/>
        </p:blipFill>
        <p:spPr>
          <a:xfrm>
            <a:off x="3429000" y="3143160"/>
            <a:ext cx="2357280" cy="2489400"/>
          </a:xfrm>
          <a:prstGeom prst="rect">
            <a:avLst/>
          </a:prstGeom>
          <a:ln w="0">
            <a:noFill/>
          </a:ln>
        </p:spPr>
      </p:pic>
      <p:pic>
        <p:nvPicPr>
          <p:cNvPr id="462" name="Obraz 14" descr=""/>
          <p:cNvPicPr/>
          <p:nvPr/>
        </p:nvPicPr>
        <p:blipFill>
          <a:blip r:embed="rId4"/>
          <a:stretch/>
        </p:blipFill>
        <p:spPr>
          <a:xfrm>
            <a:off x="428760" y="5929200"/>
            <a:ext cx="842760" cy="596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1746360" y="5930640"/>
            <a:ext cx="469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jekt Urzędu Pracy Powiatu Olsztyńskiego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Kwalifikacje Twoim kapitałem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spó</a:t>
            </a:r>
            <a:r>
              <a:rPr b="1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łf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ansowany przez Unię Europejską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6732720" y="4508640"/>
            <a:ext cx="18763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Realizac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Obraz 11" descr="BioStat - Logo"/>
          <p:cNvPicPr/>
          <p:nvPr/>
        </p:nvPicPr>
        <p:blipFill>
          <a:blip r:embed="rId5"/>
          <a:stretch/>
        </p:blipFill>
        <p:spPr>
          <a:xfrm>
            <a:off x="6804000" y="4869000"/>
            <a:ext cx="1486080" cy="2538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20"/>
          <p:cNvSpPr/>
          <p:nvPr/>
        </p:nvSpPr>
        <p:spPr>
          <a:xfrm>
            <a:off x="6732720" y="5157720"/>
            <a:ext cx="20001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12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46B9-0D43-4450-A3CB-79EA797D7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ole tekstowe 6"/>
          <p:cNvSpPr/>
          <p:nvPr/>
        </p:nvSpPr>
        <p:spPr>
          <a:xfrm>
            <a:off x="1619280" y="1989000"/>
            <a:ext cx="619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Funkcjonowanie badanych przedsiębiorst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Kondycja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F157-7A5F-4A2B-9489-15EB996E1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ole tekstowe 6"/>
          <p:cNvSpPr/>
          <p:nvPr/>
        </p:nvSpPr>
        <p:spPr>
          <a:xfrm>
            <a:off x="1000080" y="171468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liczba badanych – 40,9% – wskazała na  średni poziom kondycji przedsiębiorstwa (ani dobra, ani zła)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37% przedsiębiorców określiło kondycję swojej firmy jako dobr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57200" y="3143160"/>
            <a:ext cx="70009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rognozowany popyt na produkty/usługi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5E3F-1AC4-4330-8ED4-1D976E44E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(29,2%) uznał, iż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pyt w ich firmie w przeciągu najbliższych 12 miesięcy nie ulegnie zmi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428840" y="2786040"/>
          <a:ext cx="6786360" cy="2855880"/>
        </p:xfrm>
        <a:graphic>
          <a:graphicData uri="http://schemas.openxmlformats.org/drawingml/2006/table">
            <a:tbl>
              <a:tblPr/>
              <a:tblGrid>
                <a:gridCol w="5286240"/>
                <a:gridCol w="1500120"/>
              </a:tblGrid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wskaza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szybciej niż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 tym samym temp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olni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taki sam jak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niższ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dno powiedzie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gół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pływ recesji gospodarczej na funkcjonowanie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908E-16BE-4C4D-8286-AAD6041F4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7% respondentów uznało, iż recesja gospodarcza miała wpływ na funkcjonowanie ich przedsiębior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143000" y="2714760"/>
            <a:ext cx="7292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Czynniki wpływające na rozwój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B04A-AB99-491B-AA66-8F582C3B5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ole tekstowe 6"/>
          <p:cNvSpPr/>
          <p:nvPr/>
        </p:nvSpPr>
        <p:spPr>
          <a:xfrm>
            <a:off x="100008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liczniejsza grupa respondentów uznała, iż 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 finans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łby rozwój ich przedsiębiorstwa. Niemalże równie istotny wpływ na rozwój firmy, zdaniem respondentów maj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i gospodarc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500120" y="3071880"/>
            <a:ext cx="6643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Bariery w rozwoju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FED1-453F-4FA5-8D2D-4869FB310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ole tekstowe 6"/>
          <p:cNvSpPr/>
          <p:nvPr/>
        </p:nvSpPr>
        <p:spPr>
          <a:xfrm>
            <a:off x="1143000" y="2143080"/>
            <a:ext cx="657216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Najpoważniejsze przeszkody w procesie rozwoju, jakie wskazują pracodawc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ariera finansowa, czyli brak środków na podjęcie konkretnych dział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iurokracja ograniczająca rozwój podmiotów gospodarcz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byt mała ilość klientów i duża konkurencja na ry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810B-2147-4F56-B5E8-6A2A73BE3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ole tekstowe 6"/>
          <p:cNvSpPr/>
          <p:nvPr/>
        </p:nvSpPr>
        <p:spPr>
          <a:xfrm>
            <a:off x="1000080" y="52149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ostatnich dwóch lat poprzedzających badanie,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owych pracowników przyjęło 43,0% objętych badaniem firm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tomiast 57,0% respondentów odpowiedziało, że w ciągu ostatnich dwóch lat nie przyjmowali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759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0990-D4EB-4FB4-BC67-07CEEAEEB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ole tekstowe 6"/>
          <p:cNvSpPr/>
          <p:nvPr/>
        </p:nvSpPr>
        <p:spPr>
          <a:xfrm>
            <a:off x="971640" y="1916280"/>
            <a:ext cx="73580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przedsiębiorców przyjęło nowych pracowników na zasadz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y o pracę na czas określon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owisko takie zadeklarowało 53,0%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5,0% respondentów  zatrudniło nowych pracowników w oparciu 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ę na czas nieokreśl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56% respondentów uważa, że zatrudnieni przez nich pracownicy posiadali wykształcenie adekwatne do wykonywanego przez nich zaw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6DF0-95CC-464B-9120-EB01499CE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ole tekstowe 6"/>
          <p:cNvSpPr/>
          <p:nvPr/>
        </p:nvSpPr>
        <p:spPr>
          <a:xfrm>
            <a:off x="714240" y="2000160"/>
            <a:ext cx="735804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grupie badanych 500 przedsiębiorstw, w ciągu ostatnich dwóch lat zatrudni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kadry zarządzając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tanowiska specjalistyczn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jęto 185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średni personel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trudniono 167 osó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decydowanie liczniejszą grupę stanowili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i sprzedawc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301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 przeprowadzonej ankiety wynika, że większość nowoprzyjętych pracowników (875 osób) stanowiły osoby wykonujące prace pr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3C8A-8EFC-4A30-805C-6DF6B6878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ole tekstowe 6"/>
          <p:cNvSpPr/>
          <p:nvPr/>
        </p:nvSpPr>
        <p:spPr>
          <a:xfrm>
            <a:off x="714240" y="1857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nowo zatrudnionych pracowników stanowiły osoby w przedziale wiekowym 25-34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1071720" y="2749680"/>
            <a:ext cx="7143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Cel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Badanie lokalnego rynku pracy na terenie powiatu olsztyńskiego, miało na celu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  <a:ea typeface="Arial"/>
              </a:rPr>
              <a:t>zdiagnozowanie zapotrzebowania pracodawców na kwalifikacje i umiejętności zawodowe kandydatów do pracy  oraz usługi i instrumenty rynku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Cele szczegółowe projektu 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naliza sytuacji na lokalnym rynku pracy, jego dynamiki oraz kierunków zmi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 popytu na pracę w odniesieniu do ilości tworzonych przez pracodawców miejsc pracy posiadanych ofert pracy oraz pożądanych kwalifikacji i umiejętności zawodowych kandydatów do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zapotrzebowania pracodawców na usługi i instrumenty rynku pracy realizowane przez urząd</a:t>
            </a:r>
            <a:r>
              <a:rPr b="0" lang="pl-P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E75B-7DD8-42B2-B809-06DDC505D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1B7E-B627-498C-80D8-5C5A679A5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ole tekstowe 6"/>
          <p:cNvSpPr/>
          <p:nvPr/>
        </p:nvSpPr>
        <p:spPr>
          <a:xfrm>
            <a:off x="684360" y="1916280"/>
            <a:ext cx="799128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40% pracodawców zatrudniło w ciągu ostatnich dwóch lat absolwentów szkół, osoby uczące się oraz osoby powyżej 50 roku ży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drugim biegunie znajdują się osoby niepełnosprawne, które w ostatnich dwóch latach zatrudniło tylko nieco ponad 8%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143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4BC9-7C56-4F1A-B456-2D3F13A6F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ole tekstowe 6"/>
          <p:cNvSpPr/>
          <p:nvPr/>
        </p:nvSpPr>
        <p:spPr>
          <a:xfrm>
            <a:off x="714240" y="185724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zatrudnionych osób stanowiły osoby z wykształceniem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zasadniczym zawodowym oraz średnim zawodowy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92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7CA2-79AB-40FD-AD45-D134B9034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7"/>
          <p:cNvSpPr/>
          <p:nvPr/>
        </p:nvSpPr>
        <p:spPr>
          <a:xfrm>
            <a:off x="785880" y="1643040"/>
            <a:ext cx="757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77 pracodawców zwalniało pracowników w ciągu ostatnich dwóch lat. Łącznie zwolnili oni 403 oso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5% osób zwolnionych w ciągu ostatnich dwóch lat to właśnie pracownicy stanowisk przy pracach prostych, usług osobistych i sprzedaw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mal dwukrotnie częściej dochodzi do zwalniania mężczyzn niż kobiet, co może wiązać się z większą ruchliwością mężczyzn na rynku pra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więcej firm zwalniało osoby w przedziale wiekowym między 35 a 44 rokiem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decydowana większość spośród zwolnionych z pracy, tj. 52% to osoby powyżej 50 roku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rzadziej zwalnianymi przez pracodawców były osoby niepełnosprawne oraz kobiety, które urodziły dziecko, łącznie obie grupy stanowiły 8,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D3D1-D0B7-4023-8CF7-11B8D9819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ole tekstowe 6"/>
          <p:cNvSpPr/>
          <p:nvPr/>
        </p:nvSpPr>
        <p:spPr>
          <a:xfrm>
            <a:off x="785880" y="1989000"/>
            <a:ext cx="735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Ewaluacja potrzeb szkoleniowych </a:t>
            </a:r>
            <a:br>
              <a:rPr sz="4800"/>
            </a:b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 badanych przedsiębiorstw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8F6F-82AE-4001-8967-C9A0E58D0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ole tekstowe 6"/>
          <p:cNvSpPr/>
          <p:nvPr/>
        </p:nvSpPr>
        <p:spPr>
          <a:xfrm>
            <a:off x="785880" y="18572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co ponad 40% przedstawicieli badanych przedsiębiorstw z powiatu olsztyńskiego wskazało, że dominującym wykształceniem wśród ich pracowników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wykształcenie średnie ogólnokształcą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7047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zadowolenia z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2F32-F386-4F66-AF8D-E04D4C68D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ole tekstowe 6"/>
          <p:cNvSpPr/>
          <p:nvPr/>
        </p:nvSpPr>
        <p:spPr>
          <a:xfrm>
            <a:off x="857160" y="5286240"/>
            <a:ext cx="7358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decydowana większość badanych odpowiedziała, że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jest zadowolona z wykształcenia i umiejętności swoich pracownik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1228680" y="1785960"/>
            <a:ext cx="6932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godność wykształcenia pracowników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 wykonywanym zaw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2689-7C7B-431C-A78F-0EA20EE5A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6"/>
          <p:cNvSpPr/>
          <p:nvPr/>
        </p:nvSpPr>
        <p:spPr>
          <a:xfrm>
            <a:off x="857160" y="5286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60% przedsiębiorców wskazało, że pracownicy wykonują pracę zgodną z ich zawo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214280" y="1928880"/>
            <a:ext cx="666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anie osób w szczególnej sytuacji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BFCD-0523-49CB-897D-638A83D0D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ole tekstowe 6"/>
          <p:cNvSpPr/>
          <p:nvPr/>
        </p:nvSpPr>
        <p:spPr>
          <a:xfrm>
            <a:off x="857160" y="2214720"/>
            <a:ext cx="73580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połowa pracodawców potwierdziła, że zatrudni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powyżej 50 roku ży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7% badanych oferuje pracę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obietom po urodzeniu dziec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Absolwenci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którzy ukończyli szkołę w ciągu ostatnich dwóch lat  ora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czniowie i studenc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 pracownikami prawie co trzeciej badanej fir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1f497d"/>
                </a:solidFill>
                <a:latin typeface="Arial"/>
              </a:rPr>
              <a:t>Zainteresowanie kształceniem pracowników/podnoszeniem ich kwalifikacji poprzez szkole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E56C-CED6-4333-B7C5-0759A2472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100160" y="2071800"/>
            <a:ext cx="7089840" cy="3214440"/>
          </a:xfrm>
          <a:prstGeom prst="rect">
            <a:avLst/>
          </a:prstGeom>
          <a:ln w="0">
            <a:noFill/>
          </a:ln>
        </p:spPr>
      </p:pic>
      <p:sp>
        <p:nvSpPr>
          <p:cNvPr id="560" name="pole tekstowe 7"/>
          <p:cNvSpPr/>
          <p:nvPr/>
        </p:nvSpPr>
        <p:spPr>
          <a:xfrm>
            <a:off x="714240" y="557208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wie połowa badanych wyraża zainteresowanie podnoszeniem kwalifikacji swoich pracowników poprzez szkol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dotychczasowych szkoleń pracownicz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FB7B-1718-4807-B54C-A56E797F6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7286760" cy="3278160"/>
          </a:xfrm>
          <a:prstGeom prst="rect">
            <a:avLst/>
          </a:prstGeom>
          <a:ln w="0">
            <a:noFill/>
          </a:ln>
        </p:spPr>
      </p:pic>
      <p:sp>
        <p:nvSpPr>
          <p:cNvPr id="564" name="pole tekstowe 7"/>
          <p:cNvSpPr/>
          <p:nvPr/>
        </p:nvSpPr>
        <p:spPr>
          <a:xfrm>
            <a:off x="714240" y="528624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tematyki, dotychczas organizowanych szkoleń, dominował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zkolenia BHP, szkolenia z zakresu sprzedaży i obsługi klienta, administracyjno-biurowe oraz szkolenia zawodow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Metodologia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8552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Badanie zostało zrealizowane w okresie od października do listopada 2010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  <a:ea typeface="Arial"/>
              </a:rPr>
              <a:t>Techniki i narzędzia badawcz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danych zasta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wiady kwestionariusz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50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Indywidualny wywiad pogłębiony (IDI)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3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08D8-AE41-4AFE-9A5B-D15A50CA5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C2B0-9CF9-404F-9A30-C7F8F1545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6"/>
          <p:cNvSpPr/>
          <p:nvPr/>
        </p:nvSpPr>
        <p:spPr>
          <a:xfrm>
            <a:off x="1428840" y="1989000"/>
            <a:ext cx="664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Plany przedsiębiorców dotyczące zatrudnie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B2ED-4FD6-4C3D-8140-4E91DB8A0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7"/>
          <p:cNvSpPr/>
          <p:nvPr/>
        </p:nvSpPr>
        <p:spPr>
          <a:xfrm>
            <a:off x="642960" y="1717560"/>
            <a:ext cx="75722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5% przedsiębiorców z powiatu olsztyńskiego wskazało na brak trudności z dostępnością pracowników na lokalnym rynku p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udności w tym zakresie dostrzega łącznie 29,7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mniejsze problemy ze znalezieniem nowych pracowników mają przedsiębiorstwa związane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ieruchomościami, organizacje i stowarzyszenia oraz przedsiębiorstwa z branży finansow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e trudności w znalezieniu nowych pracowników pojawiają się w przedsiębiorstwach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branży motoryzacyjnej oraz w jednostkach służby zdrow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pracowników w ciągu kolejn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5FB5-65A0-4172-B7FF-E3BEC33FB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7"/>
          <p:cNvSpPr/>
          <p:nvPr/>
        </p:nvSpPr>
        <p:spPr>
          <a:xfrm>
            <a:off x="857160" y="542916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oło 19% objętych badaniem osób stwierdziło, iż planuje w okresie kolejnych dwóch lat przyjąć now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6978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82DF-4AEB-42A2-94FD-F897AD8E6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ole tekstowe 7"/>
          <p:cNvSpPr/>
          <p:nvPr/>
        </p:nvSpPr>
        <p:spPr>
          <a:xfrm>
            <a:off x="642960" y="2500200"/>
            <a:ext cx="774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Badani przedsiębiorcy z terenu powiatu olsztyńskiego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 większości deklarują, że zatrudniliby więcej pracowników mając wsparcie lokalnych instytucji rynku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7B20-0D55-44E4-BABE-6FA881310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ole tekstowe 7"/>
          <p:cNvSpPr/>
          <p:nvPr/>
        </p:nvSpPr>
        <p:spPr>
          <a:xfrm>
            <a:off x="500040" y="2071800"/>
            <a:ext cx="757224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dawcy, którzy wzięli udział w badaniu najczęściej poszukują pracowników na stanowiska związane z działalnością gastronomiczną, tj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elnera, barmana, pomoc kuchenną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respondentów pojawiła się dość znaczna grupa właścicieli przedsiębiorstw, którzy obecnie poszukują do prac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robotników oraz wysoko wyspecjalizowanych pracowników w branży budowlanej, np. murarza, operatora wiert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3EAA-B9A9-417A-A5D5-91ACD7BBA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ole tekstowe 7"/>
          <p:cNvSpPr/>
          <p:nvPr/>
        </p:nvSpPr>
        <p:spPr>
          <a:xfrm>
            <a:off x="857160" y="2786040"/>
            <a:ext cx="714384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m zainteresowaniem ze strony badanych cieszą się osoby z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ykształceniem średnim zawodowym, zasadniczym zawodowym oraz wyższ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4972-7A1D-4404-B972-C96B651DA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ole tekstowe 7"/>
          <p:cNvSpPr/>
          <p:nvPr/>
        </p:nvSpPr>
        <p:spPr>
          <a:xfrm>
            <a:off x="857160" y="1643040"/>
            <a:ext cx="71438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Podstawowe wymagania stawiane kandyd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siadanie prawa jazd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komputer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jomości metod sprzedaży bezpośredniej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4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maszy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tokarz, stolarz, etc.) (30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tawowa wiedza z zakresu księgowości, ekonomii i finans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2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68A8-AEA1-4B70-AC69-E51FDACDD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ole tekstowe 7"/>
          <p:cNvSpPr/>
          <p:nvPr/>
        </p:nvSpPr>
        <p:spPr>
          <a:xfrm>
            <a:off x="285840" y="2428920"/>
            <a:ext cx="500040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munikatyw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6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najomość branż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44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fesjonaliz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rność na stres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ole tekstowe 7"/>
          <p:cNvSpPr/>
          <p:nvPr/>
        </p:nvSpPr>
        <p:spPr>
          <a:xfrm>
            <a:off x="4357800" y="2786040"/>
            <a:ext cx="457200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szybkiego uczenia się/podnoszenia kwalifikacji zawodowy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h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otywacja do prac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dobrej organizacji pra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y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ole tekstowe 7"/>
          <p:cNvSpPr/>
          <p:nvPr/>
        </p:nvSpPr>
        <p:spPr>
          <a:xfrm>
            <a:off x="1071720" y="2071800"/>
            <a:ext cx="692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Dodatkowe wymagania stawiane kandydato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osób w szczególnej sytuacji 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5815-BD1D-4706-B467-F08D31783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ole tekstowe 7"/>
          <p:cNvSpPr/>
          <p:nvPr/>
        </p:nvSpPr>
        <p:spPr>
          <a:xfrm>
            <a:off x="785880" y="178596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połowa przedsiębiorców objętych badaniem nie planuje przyjęć do pracy osób, które znajdują się w szczególnej sytuacji na rynku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ęć zatrudnienia w swojej firmie pracownika spośród tej grupy osób wyraża 29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57200" y="3500280"/>
            <a:ext cx="64296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najbliższ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E58D-CD55-4489-A26E-A946F690F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ole tekstowe 7"/>
          <p:cNvSpPr/>
          <p:nvPr/>
        </p:nvSpPr>
        <p:spPr>
          <a:xfrm>
            <a:off x="785880" y="207180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% przedsiębiorców zamierza zwalniać pracowników w ciągu najbliższych dwóch 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ole tekstowe 5"/>
          <p:cNvSpPr/>
          <p:nvPr/>
        </p:nvSpPr>
        <p:spPr>
          <a:xfrm>
            <a:off x="3286080" y="2928960"/>
            <a:ext cx="3024360" cy="1079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czyny planowanych zwoln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załka w dół 6"/>
          <p:cNvSpPr/>
          <p:nvPr/>
        </p:nvSpPr>
        <p:spPr>
          <a:xfrm>
            <a:off x="4572000" y="4000680"/>
            <a:ext cx="431640" cy="14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ole tekstowe 8"/>
          <p:cNvSpPr/>
          <p:nvPr/>
        </p:nvSpPr>
        <p:spPr>
          <a:xfrm>
            <a:off x="928800" y="4429080"/>
            <a:ext cx="60721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lejące dochody przedsiębiors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miar likwidacji przedsiębiorstwa lub poszczególnych placów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ieczność redukcji zatrudni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gaśnięcie umowy staż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ow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3CC4-A9CB-4DF4-8A34-C40F802CB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ole tekstowe 6"/>
          <p:cNvSpPr/>
          <p:nvPr/>
        </p:nvSpPr>
        <p:spPr>
          <a:xfrm>
            <a:off x="714240" y="2143080"/>
            <a:ext cx="771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C0EC-4507-48BA-A05C-557DA0749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ole tekstowe 9"/>
          <p:cNvSpPr/>
          <p:nvPr/>
        </p:nvSpPr>
        <p:spPr>
          <a:xfrm>
            <a:off x="1214280" y="1989000"/>
            <a:ext cx="671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wiedzy na temat oferowanych przez Urząd form wspar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F3DA-1873-4EBA-AD6D-501965336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ole tekstowe 7"/>
          <p:cNvSpPr/>
          <p:nvPr/>
        </p:nvSpPr>
        <p:spPr>
          <a:xfrm>
            <a:off x="785880" y="207180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edsiębiorcy posiadający w swojej ocenie dobrą wiedzę na temat wsparcia udzielanego przez Urząd Pracy Powiatu Olsztyńskiego stanowią 23% ogółu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rdzo dobrze w tej kwestii orientuje się 8,3% przedstawicieli przedsiębiorst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ole tekstowe 8"/>
          <p:cNvSpPr/>
          <p:nvPr/>
        </p:nvSpPr>
        <p:spPr>
          <a:xfrm>
            <a:off x="1071720" y="4214880"/>
            <a:ext cx="72864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Źródła wiedz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edia i prasa (32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urzędu (31,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net (29,5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9A49-149E-42B0-A86F-16121A952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6357960" cy="3027240"/>
          </a:xfrm>
          <a:prstGeom prst="rect">
            <a:avLst/>
          </a:prstGeom>
          <a:ln w="0">
            <a:noFill/>
          </a:ln>
        </p:spPr>
      </p:pic>
      <p:sp>
        <p:nvSpPr>
          <p:cNvPr id="610" name="pole tekstowe 6"/>
          <p:cNvSpPr/>
          <p:nvPr/>
        </p:nvSpPr>
        <p:spPr>
          <a:xfrm>
            <a:off x="571680" y="4857840"/>
            <a:ext cx="76435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yczyny braku współpra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trudnianie nowych pracownik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ała aktywność działań podejmowanych przez Urzą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cza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ragmentarycznej wiedzy na temat dostępnych form wsp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Formy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E000-E7B3-45E5-B961-E4091A119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ole tekstowe 6"/>
          <p:cNvSpPr/>
          <p:nvPr/>
        </p:nvSpPr>
        <p:spPr>
          <a:xfrm>
            <a:off x="642960" y="2500200"/>
            <a:ext cx="764388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częstszą formą wsparcia ze strony Urzędu, z której korzystają przedsiębiorcy są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 staże, dofinansowania do stanowiska pracy oraz pośrednictwo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elu wypadkach współpraca ta opiera się również na pracach interwencyjnych oraz pomocy w poszukiwaniu pracowni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BB0B-4BF8-4545-B5E1-835063ABE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ole tekstowe 6"/>
          <p:cNvSpPr/>
          <p:nvPr/>
        </p:nvSpPr>
        <p:spPr>
          <a:xfrm>
            <a:off x="642960" y="1857240"/>
            <a:ext cx="764388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Ponad 86% badanych twierdzi, że z Urzędem współpracuje się dobrze albo bardzo dobr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6675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4584-DF8F-4566-83AD-C76709D94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ole tekstowe 6"/>
          <p:cNvSpPr/>
          <p:nvPr/>
        </p:nvSpPr>
        <p:spPr>
          <a:xfrm>
            <a:off x="714240" y="52862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ólnej ocenie ponad 3/4 przedsiębiorców współpracujących z Urzędem Pracy jest zadowolonych z pozyskanych dzięki tej współpracy pracowników</a:t>
            </a: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7223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A56D-FD5D-4D3E-88D7-E8715EB17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ole tekstowe 6"/>
          <p:cNvSpPr/>
          <p:nvPr/>
        </p:nvSpPr>
        <p:spPr>
          <a:xfrm>
            <a:off x="857160" y="14288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cenie ponad jednej trzeciej przedsiębiorców z powiatu olsztyńskiego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stopień skomplikowania procedur oraz dokumentacji stosowanych przez Urząd jest ni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357200" y="3071880"/>
            <a:ext cx="7000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CABD-255B-45B8-B98B-F2C4D81C7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ole tekstowe 6"/>
          <p:cNvSpPr/>
          <p:nvPr/>
        </p:nvSpPr>
        <p:spPr>
          <a:xfrm>
            <a:off x="785880" y="2357280"/>
            <a:ext cx="764388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ski stopień skomplikowania procedur stosowanych przez Urząd Pracy Powiatu Olsztyńskiego może mieć pozytywny wpływ na chęć podejmowania współpracy z Urzędem również przez podmioty, które do tej pory nie korzystały z jego wspar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8880-1A0A-426B-9722-8D9EAFDCC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ole tekstowe 5"/>
          <p:cNvSpPr/>
          <p:nvPr/>
        </p:nvSpPr>
        <p:spPr>
          <a:xfrm>
            <a:off x="2428920" y="1928880"/>
            <a:ext cx="4000320" cy="107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e formy współpracy z Urzęd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11"/>
          <p:cNvSpPr/>
          <p:nvPr/>
        </p:nvSpPr>
        <p:spPr>
          <a:xfrm>
            <a:off x="1071720" y="3357720"/>
            <a:ext cx="664344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że (43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fundacja kosztów doposażenia lub wyposażenia stanowiska pracy dla skierowanego bezrobotnego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ganizacja przygotowania zawodowego dla dorosłych (19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ace interwencyjne (15,2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załka w dół 13"/>
          <p:cNvSpPr/>
          <p:nvPr/>
        </p:nvSpPr>
        <p:spPr>
          <a:xfrm>
            <a:off x="4286160" y="3000240"/>
            <a:ext cx="432000" cy="1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5A03-FFF9-41ED-844B-ED2E17DB8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ole tekstowe 11"/>
          <p:cNvSpPr/>
          <p:nvPr/>
        </p:nvSpPr>
        <p:spPr>
          <a:xfrm>
            <a:off x="857160" y="2143080"/>
            <a:ext cx="70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 wynika z przeprowadzonego badania powiat olsztyński ma predyspozycję do rozwoju oraz wchłonięcia nowej siły roboczej. Istotne jest jednak nawiązanie ścisłej współpracy pracodawców z pracownikami  Urzędu Pracy Powiatu Olsztyńskiego, co pozwoli na dobór instrumentów i usług rynku pracy, które sprawią, iż osoby bezrobotne staną się bardziej atrakcyjne dla potencjalnych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50E1-5D26-4751-B201-BF4B9AB5A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ole tekstowe 6"/>
          <p:cNvSpPr/>
          <p:nvPr/>
        </p:nvSpPr>
        <p:spPr>
          <a:xfrm>
            <a:off x="357120" y="2143080"/>
            <a:ext cx="856944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ększość z badanych przedsiębiorstw powstało w ostatnich pięciu bądź dziesięciu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daniem objęto jednostki, których siedziba znajdowała się na terenie powiatu olsztyńskiego lub też, których siedziba zlokalizowana na tym terenie posiadała samodzielną politykę personal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ich liczba znajduje się w mieście Biskupiec oraz Barczewo (w sumie ponad 42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uczestników badania (63% jednostek) stanowiły osoby fizyczne prowadzące działalność gospodarcz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3419640" y="5589720"/>
            <a:ext cx="3155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20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76092"/>
                </a:solidFill>
                <a:latin typeface="Arial"/>
              </a:rPr>
              <a:t>Dziękujemy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BioStat - Logo"/>
          <p:cNvPicPr/>
          <p:nvPr/>
        </p:nvPicPr>
        <p:blipFill>
          <a:blip r:embed="rId1"/>
          <a:stretch/>
        </p:blipFill>
        <p:spPr>
          <a:xfrm>
            <a:off x="3500280" y="5229360"/>
            <a:ext cx="2224080" cy="360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5" descr="UE+EFS_L-kolor"/>
          <p:cNvPicPr/>
          <p:nvPr/>
        </p:nvPicPr>
        <p:blipFill>
          <a:blip r:embed="rId3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sięg terytorialny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ABEC-3C6F-440D-9530-9399A452F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357200" y="2071800"/>
            <a:ext cx="6429600" cy="2990880"/>
          </a:xfrm>
          <a:prstGeom prst="rect">
            <a:avLst/>
          </a:prstGeom>
          <a:ln w="0">
            <a:noFill/>
          </a:ln>
        </p:spPr>
      </p:pic>
      <p:sp>
        <p:nvSpPr>
          <p:cNvPr id="482" name="pole tekstowe 6"/>
          <p:cNvSpPr/>
          <p:nvPr/>
        </p:nvSpPr>
        <p:spPr>
          <a:xfrm>
            <a:off x="1000080" y="542916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 odsetek badanych przedsiębiorstw - 58% - obejmuje swoim zasięgiem działania biznesowego obszar powia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zatrudnienia w badanych przedsiębiorstw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E42F-3A8A-4499-816A-6F453C85C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ole tekstowe 6"/>
          <p:cNvSpPr/>
          <p:nvPr/>
        </p:nvSpPr>
        <p:spPr>
          <a:xfrm>
            <a:off x="1000080" y="1928880"/>
            <a:ext cx="678672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zarządzając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prawie 40% badanych firm, jednakże w znacznej części przedsiębiorstw do tego grona zaliczał się właściciel, bądź współwłaściciel fi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 względu na duży udział firm o charakterze handlowo-usługowym w przypadku połowy badanych przedsiębiorstw zatrudnieni s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oraz sprze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specjalistów oraz pracowników biurowych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około jednej trzeciej badanych jednos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pracujący przy pracach prost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trudnieni są w 40% badanych fi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iekowa zatrudnionych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EA16-CE50-4616-BD2E-69031138F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ole tekstowe 6"/>
          <p:cNvSpPr/>
          <p:nvPr/>
        </p:nvSpPr>
        <p:spPr>
          <a:xfrm>
            <a:off x="1000080" y="192888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w wieku pomiędzy 25 a 34 lat dominują w 37% badanych przedsiębiorstw. Prawie jedna piąta odpowiedzi wskazywała na przedział pomiędzy 35-44 lat jako dominujący wiek zatrudnion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428840" y="3279600"/>
            <a:ext cx="63691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Dominująca forma zatrudni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C940-2400-4E3B-99BF-8E896602D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ole tekstowe 6"/>
          <p:cNvSpPr/>
          <p:nvPr/>
        </p:nvSpPr>
        <p:spPr>
          <a:xfrm>
            <a:off x="1000080" y="192888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nad połowie badanych przedsiębiorstw z powiatu olsztyńskiego dominującym rodzajem umowy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a na czas nieokreślo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357200" y="3286080"/>
            <a:ext cx="6450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37:49Z</dcterms:created>
  <dc:creator>mszkarlat BioStat</dc:creator>
  <dc:description/>
  <dc:language>en-US</dc:language>
  <cp:lastModifiedBy>Michal</cp:lastModifiedBy>
  <dcterms:modified xsi:type="dcterms:W3CDTF">2010-12-12T15:17:50Z</dcterms:modified>
  <cp:revision>356</cp:revision>
  <dc:subject/>
  <dc:title>Badanie ewaluacyjne  projektu systemowego  „Cel – praca”</dc:title>
</cp:coreProperties>
</file>