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0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.jpeg" ContentType="image/jpeg"/>
  <Override PartName="/ppt/media/image25.wmf" ContentType="image/x-wmf"/>
  <Override PartName="/ppt/media/image27.jpeg" ContentType="image/jpeg"/>
  <Override PartName="/ppt/media/image16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5.wmf" ContentType="image/x-wmf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6C0F-2B1C-4C86-B7DA-11731A97E1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4703-1A5D-4156-B2ED-268A9AD41B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0A95C-6DF3-4422-B515-7D35B13702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A6809-4DEE-49BB-83AD-7DE64F3F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134D75-67C1-4BEB-821B-681F3D08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3F559E-1F8B-47F6-BDB3-E3EEAA87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14E156-9690-4E61-9EEF-2691B8F7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EB4D19-6C84-494A-8B3F-6B18EC81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6E180B-D424-467C-996D-4A73698E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C58200-02FE-4383-9492-BC8BFCA9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E20A0F-525B-4FCB-BC80-28EA3E0F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6F22E5-13D2-4750-B384-02C84D1F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7F2CF4-8C75-4D4C-A662-1F2812DD0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480ED5-DB53-4D2E-85DD-B71069E27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428FA-6880-4A0D-9D19-DEBAAC14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A404D1-BBBD-425C-A91F-3F27EB3D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237710-ED40-4ED0-8C92-58CB9CF3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E17184-86FB-45BE-8427-E36914E7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70C501-4D43-4476-9ECD-D275B2BD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5FF13A-FCD4-4DC3-9A43-2F69001C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2450E0-4BBD-48E4-9F83-23B70F14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D00749-F77D-4EFA-AE8A-F7464D20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1FAD9B-0184-46A7-BA2C-1247897C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B9DF17-690E-44DA-9005-F1EB1A74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392800-B321-4E63-9530-33259A1AB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F3683-02D6-4560-A56E-C69FFDF588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B55981-AEE2-4602-A82E-FB394ED1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E4E80E-4392-4257-A110-3C80FC1FF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4AD6F3-C21D-47B0-88EE-A724CE80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C878800-076C-4500-A0FD-1AD1F9A2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9BC867F-6D9F-4D5B-8054-B7FACE6E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96D49D-5834-4F63-B83D-A6EEE515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D592656-F2A9-49A9-86F5-75B4454C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981023D-3687-46E4-83EB-4434EBB1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9907715-F23E-4000-A3E9-CAA3D82E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A770F52-6D12-4FC3-AE23-2267A6A6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31272-E299-4546-82BA-9F8CC04930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1FF8DE9-69DE-4590-B9DC-FD76FA65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63B5AC7-7AC5-4117-AD9B-47094786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678AD4E-2DC6-48C2-9FC6-341D8969A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78B1B-81F7-4827-BE8A-82639F8E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79E12-C953-4664-89E1-48E26032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D6701-70D2-4054-8911-FC24AFD5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AD316-EA18-4BD5-93C5-F3870A8F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5128E-1C1F-4384-8E52-87A82E47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317E0-B734-4141-924C-9BFF3888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BA7CB-54DA-4BD9-B6C9-282AB1DC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9DC52-F4A4-483C-BFBF-F54C24E5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5F031-C8CC-4348-A8EF-CD37B923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DAAD8-527A-4B4C-B27A-231DB8AD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6F54C-9D36-4624-81AD-528EA776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A080C-3EE3-414D-9A19-AB9AC2580B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8E8F84-57DB-48BA-B319-2C2EC0836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D3E8F6-79C0-4625-ACEF-6EC28EE2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655FC9-F64B-48DF-A124-E4F5946A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03CAB7-A0B7-4E50-AE56-BB43CE1A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7072C2-47C4-4613-934D-C07BEE06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C3CD9-9B48-4137-8D93-DFD5CB86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87D7FB-F3DF-4F94-A005-85195B7C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11C0CA-4AB9-45B1-90B3-9DA98467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3D86D6-002C-4B71-AAE2-3EFD7724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90FF6D-7CBA-4952-875F-E68C00B0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38C847-811D-46E7-A528-3B99FE5D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E06A7F-9E05-449C-90BE-4692891D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659409-204C-45BC-B841-92C31DA0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9FA06F-FFC8-4CA5-8DED-1A8229303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44A582-F959-42BD-ADE0-2D90A958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5190B4-E05F-42C4-B531-9E241F34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F7131-85CE-4C65-AB11-2815DEDD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867F1E-D6E1-4C60-971D-A759F884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69DEEA-3A99-4B76-B04C-142C163B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2774DE-0685-451F-8FC7-9BD02B4C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94C321-C4F4-4CFE-8329-D3409D21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2489FC-2F48-42FE-B706-F4CFD8B9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ADE5CE-44FB-4E43-8B34-36CC3632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1879DA-BC23-4906-8DF2-0058DB35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587153-50D3-426C-A172-38FF9914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B1DD56-ACA4-4E71-8566-7BA8B228E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31EBAD-B120-4B78-910C-5692C566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FBC8B-0461-45FC-9239-6F8B8AB8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11CE27-413C-4AF5-BF36-E9DA955F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EE202F-62EF-45AC-8936-73E4017A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FC0FFF-71B9-434F-883A-DD2F9784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4F7973-D877-4DC2-9B01-D334F75F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88DDD3-6290-49DF-9C29-A7954BA2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A6FE44-5F80-41A2-8E9D-9867D12D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ECDC6A-9967-4434-824B-978F0EC8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491E94-C655-4CF2-ABF4-833DDAE4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243777-6026-495C-BF93-5540EF3E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E05D78-CC09-4AF2-831B-74CA41F2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1186A-64DB-4E0A-9EFE-68CF5C4E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F14D8C-916B-4F6F-A0DE-2716BDAA2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CEBF9E-D58E-4EA1-BA6B-0D9314821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81C360-A9D8-431F-A97F-2B1CFA98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FEA4C9-9954-4A87-924A-0B099A39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AE8199-6FE9-4928-B2DD-BA40CAF8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BB3860-945D-4EC3-8DDF-10201F37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99D94F-281A-4035-A170-890B4971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ABACCE-25AA-47EB-AA5F-D4B2154F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5197EE-7B81-43F8-A449-C2AF2247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964410-4A3B-4DDA-A3A5-964C92BC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35D63-D32E-4548-A586-90A723D6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F45F7F-AD0B-40CC-BE67-B1152FFA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791752-7792-4C7E-B609-676C8C0DB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EBC860-66EE-4874-B36B-52EB782F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D1EB7C-95A5-4C23-853A-89C45AC32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F6ABF4-AF72-43DC-A6D2-2EB82FCE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FBDF4E-9BC3-4EE7-B1FC-35F107E9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D77396-7D60-47E0-875D-ECF23E51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DB9DFD-8F0D-458E-9667-18CAD135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7030F6-02EA-4740-B2B4-FB605DEF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966AAE-523F-45D5-B5E9-F814BB94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B4657-0B02-48AC-A2B0-B798A7FA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96F183-20F1-4F5B-977F-F6EAF4BD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60216C-4306-455C-8DEF-285700E9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2D2884-C543-4572-A0B0-028BA6DE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963329-B11D-4D2E-8322-61AE54B28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5B0206-5AFA-40A3-B332-F161A2EA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E47F9E-C721-498A-8E4A-966FEB80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AAA9D8-2591-45D7-BB7C-0D99570F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4C03ED-48D9-4858-AFC3-90AB92AB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D9D217-0A56-44C0-B847-B1A0290A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DF7E9E-D27E-419A-8106-76CCC8B1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FDA91-0047-4AE1-AD27-96C0D502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E64AB7-9D58-404C-8BB3-7F8B6687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CC8269-A3AB-45D5-AD80-70A5D0F1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E8B8BD-0128-4B10-BCF9-3DCC2291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54221D-B84B-4DCB-858D-FAE8C2F0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55D46F-8AA4-446D-BB7F-8E538FF9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1AD4FB-367F-443C-A7F1-F2B232924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640FC7-24E6-4AE4-BAE2-458EFAA3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095C02-5CF9-4A6B-8BBB-C04EE6E4C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06EA62-14CC-420B-B5C4-F1D7108F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B55D27-0D2D-4199-87D9-F1147908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CE76-CCA6-469F-AC14-79FD77CA5C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DB29-1847-48DC-9287-237734344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9E1E-32CF-46E7-B846-C0458B0F03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2F1C-1964-4FC3-AC94-FF3071A71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AD17-5E04-4C16-AC96-38565C0809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47CE-7537-4843-B2C3-AFD9E4958B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Łącznik prosty 6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2922-0A8E-46F8-AD94-AE3D1CDC64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871F-E667-4F25-9237-D21C52AE65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0068-0D50-4A7D-868E-9EF8F3FD38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0D4E-9305-4BA1-97B8-D74AACF05A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Łącznik prosty 6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2C6F-5E11-4276-BCDC-38AB4D8748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287F-F803-44E3-AD3F-8AB620271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E99E-564B-47F5-A15B-85B06586C9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F1E6-A724-436A-AC3B-3AF51524A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8D1A-20CD-4EF1-9F72-702D323E7C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9592-E352-4418-B848-34AA6CCD8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5086-F06B-4984-B425-3021936146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F914-1A22-4071-9BD6-C49D27B4B9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1EC3-CFB3-4B0B-8E2C-31686A79E9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5B0C-44AF-4F9E-AA4E-81363A246C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978D-4E11-40F9-BCB2-9725E8EAB7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FC4B-1DDF-4B63-8BF0-6C10B6530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3" descr=""/>
          <p:cNvPicPr/>
          <p:nvPr/>
        </p:nvPicPr>
        <p:blipFill>
          <a:blip r:embed="rId1"/>
          <a:stretch/>
        </p:blipFill>
        <p:spPr>
          <a:xfrm>
            <a:off x="0" y="0"/>
            <a:ext cx="2800440" cy="13572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5" descr="UE+EFS_L-kolor"/>
          <p:cNvPicPr/>
          <p:nvPr/>
        </p:nvPicPr>
        <p:blipFill>
          <a:blip r:embed="rId2"/>
          <a:stretch/>
        </p:blipFill>
        <p:spPr>
          <a:xfrm>
            <a:off x="6659640" y="404640"/>
            <a:ext cx="2098440" cy="770040"/>
          </a:xfrm>
          <a:prstGeom prst="rect">
            <a:avLst/>
          </a:prstGeom>
          <a:ln w="0">
            <a:noFill/>
          </a:ln>
        </p:spPr>
      </p:pic>
      <p:sp>
        <p:nvSpPr>
          <p:cNvPr id="460" name="Tytuł 1"/>
          <p:cNvSpPr/>
          <p:nvPr/>
        </p:nvSpPr>
        <p:spPr>
          <a:xfrm>
            <a:off x="0" y="1214280"/>
            <a:ext cx="9144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 Black"/>
              </a:rPr>
              <a:t>Sytuacja i oczekiwani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 Black"/>
              </a:rPr>
              <a:t>pracodawców w powieci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 Black"/>
              </a:rPr>
              <a:t>olsztyński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9" descr=""/>
          <p:cNvPicPr/>
          <p:nvPr/>
        </p:nvPicPr>
        <p:blipFill>
          <a:blip r:embed="rId3"/>
          <a:stretch/>
        </p:blipFill>
        <p:spPr>
          <a:xfrm>
            <a:off x="3429000" y="3143160"/>
            <a:ext cx="2357280" cy="2489400"/>
          </a:xfrm>
          <a:prstGeom prst="rect">
            <a:avLst/>
          </a:prstGeom>
          <a:ln w="0">
            <a:noFill/>
          </a:ln>
        </p:spPr>
      </p:pic>
      <p:pic>
        <p:nvPicPr>
          <p:cNvPr id="462" name="Obraz 14" descr=""/>
          <p:cNvPicPr/>
          <p:nvPr/>
        </p:nvPicPr>
        <p:blipFill>
          <a:blip r:embed="rId4"/>
          <a:stretch/>
        </p:blipFill>
        <p:spPr>
          <a:xfrm>
            <a:off x="428760" y="5929200"/>
            <a:ext cx="842760" cy="59688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3"/>
          <p:cNvSpPr/>
          <p:nvPr/>
        </p:nvSpPr>
        <p:spPr>
          <a:xfrm>
            <a:off x="1746360" y="5930640"/>
            <a:ext cx="469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rojekt Urzędu Pracy Powiatu Olsztyńskiego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Kwalifikacje Twoim kapitałem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wspó</a:t>
            </a:r>
            <a:r>
              <a:rPr b="1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łf</a:t>
            </a: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ansowany przez Unię Europejską </a:t>
            </a: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w ramach Europejskiego Funduszu Społeczne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7"/>
          <p:cNvSpPr/>
          <p:nvPr/>
        </p:nvSpPr>
        <p:spPr>
          <a:xfrm>
            <a:off x="6732720" y="4508640"/>
            <a:ext cx="187632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Berlin Sans FB Demi"/>
              </a:rPr>
              <a:t>Realizacj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Obraz 11" descr="BioStat - Logo"/>
          <p:cNvPicPr/>
          <p:nvPr/>
        </p:nvPicPr>
        <p:blipFill>
          <a:blip r:embed="rId5"/>
          <a:stretch/>
        </p:blipFill>
        <p:spPr>
          <a:xfrm>
            <a:off x="6804000" y="4869000"/>
            <a:ext cx="1486080" cy="25380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20"/>
          <p:cNvSpPr/>
          <p:nvPr/>
        </p:nvSpPr>
        <p:spPr>
          <a:xfrm>
            <a:off x="6732720" y="5157720"/>
            <a:ext cx="200016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Berlin Sans FB Demi"/>
              </a:rPr>
              <a:t>www.bio</a:t>
            </a:r>
            <a:r>
              <a:rPr b="0" lang="pl-PL" sz="1200" spc="-1" strike="noStrike">
                <a:solidFill>
                  <a:srgbClr val="c00000"/>
                </a:solidFill>
                <a:latin typeface="Berlin Sans FB Demi"/>
              </a:rPr>
              <a:t>s</a:t>
            </a:r>
            <a:r>
              <a:rPr b="0" lang="pl-PL" sz="1200" spc="-1" strike="noStrike">
                <a:solidFill>
                  <a:srgbClr val="000000"/>
                </a:solidFill>
                <a:latin typeface="Berlin Sans FB Demi"/>
              </a:rPr>
              <a:t>tat.com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2C6B-262A-464E-B355-5A30765294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ole tekstowe 6"/>
          <p:cNvSpPr/>
          <p:nvPr/>
        </p:nvSpPr>
        <p:spPr>
          <a:xfrm>
            <a:off x="1619280" y="1989000"/>
            <a:ext cx="619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Funkcjonowanie badanych przedsiębiorst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Kondycja przedsiębiorst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73E6-A62C-4018-8930-3E4618C4D2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ole tekstowe 6"/>
          <p:cNvSpPr/>
          <p:nvPr/>
        </p:nvSpPr>
        <p:spPr>
          <a:xfrm>
            <a:off x="1000080" y="171468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a liczba badanych – 40,9% – wskazała na  średni poziom kondycji przedsiębiorstwa (ani dobra, ani zła).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onad 37% przedsiębiorców określiło kondycję swojej firmy jako dobrą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1357200" y="3143160"/>
            <a:ext cx="700092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Prognozowany popyt na produkty/usługi przedsiębiorst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0D05-7892-4C5E-80D7-C888C8B7A2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ole tekstowe 6"/>
          <p:cNvSpPr/>
          <p:nvPr/>
        </p:nvSpPr>
        <p:spPr>
          <a:xfrm>
            <a:off x="1000080" y="171468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badanych (29,2%) uznał, iż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opyt w ich firmie w przeciągu najbliższych 12 miesięcy nie ulegnie zmia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428840" y="2786040"/>
          <a:ext cx="6786360" cy="2855880"/>
        </p:xfrm>
        <a:graphic>
          <a:graphicData uri="http://schemas.openxmlformats.org/drawingml/2006/table">
            <a:tbl>
              <a:tblPr/>
              <a:tblGrid>
                <a:gridCol w="5286240"/>
                <a:gridCol w="1500120"/>
              </a:tblGrid>
              <a:tr h="444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wskaza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rósł szybciej niż ter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rósł w tym samym temp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,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rósł wolnie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taki sam jak ter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niższ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udno powiedzie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,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gół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Wpływ recesji gospodarczej na funkcjonowanie przedsiębiors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7D0F-91C0-485B-9AEB-0150CD0AB0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ole tekstowe 6"/>
          <p:cNvSpPr/>
          <p:nvPr/>
        </p:nvSpPr>
        <p:spPr>
          <a:xfrm>
            <a:off x="1000080" y="171468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Około 47% respondentów uznało, iż recesja gospodarcza miała wpływ na funkcjonowanie ich przedsiębiorst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1143000" y="2714760"/>
            <a:ext cx="729288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Czynniki wpływające na rozwój przedsiębiors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7553-1155-4D62-B641-895CB9AD5C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ole tekstowe 6"/>
          <p:cNvSpPr/>
          <p:nvPr/>
        </p:nvSpPr>
        <p:spPr>
          <a:xfrm>
            <a:off x="1000080" y="171468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liczniejsza grupa respondentów uznała, iż 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czynnik finansowy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możliwiłby rozwój ich przedsiębiorstwa. Niemalże równie istotny wpływ na rozwój firmy, zdaniem respondentów mają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czynniki gospodarc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1500120" y="3071880"/>
            <a:ext cx="664380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Bariery w rozwoju przedsiębiors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7FC2-5380-4249-8832-884A6E4709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ole tekstowe 6"/>
          <p:cNvSpPr/>
          <p:nvPr/>
        </p:nvSpPr>
        <p:spPr>
          <a:xfrm>
            <a:off x="1143000" y="2143080"/>
            <a:ext cx="6572160" cy="27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Najpoważniejsze przeszkody w procesie rozwoju, jakie wskazują pracodawcy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Bariera finansowa, czyli brak środków na podjęcie konkretnych działa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Biurokracja ograniczająca rozwój podmiotów gospodarcz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Zbyt mała ilość klientów i duża konkurencja na ryn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74FF-E08B-48CB-BE00-0FA3DE0738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ole tekstowe 6"/>
          <p:cNvSpPr/>
          <p:nvPr/>
        </p:nvSpPr>
        <p:spPr>
          <a:xfrm>
            <a:off x="1000080" y="521496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kresie ostatnich dwóch lat poprzedzających badanie,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nowych pracowników przyjęło 43,0% objętych badaniem firm.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tomiast 57,0% respondentów odpowiedziało, że w ciągu ostatnich dwóch lat nie przyjmowali pracownik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6759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B5C1-6378-4B0E-B0BC-E7FFDAA680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ole tekstowe 6"/>
          <p:cNvSpPr/>
          <p:nvPr/>
        </p:nvSpPr>
        <p:spPr>
          <a:xfrm>
            <a:off x="971640" y="1916280"/>
            <a:ext cx="735804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badanych przedsiębiorców przyjęło nowych pracowników na zasadzie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umowy o pracę na czas określony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anowisko takie zadeklarowało 53,0% badany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5,0% respondentów  zatrudniło nowych pracowników w oparciu o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umowę na czas nieokreślo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onad 56% respondentów uważa, że zatrudnieni przez nich pracownicy posiadali wykształcenie adekwatne do wykonywanego przez nich zawo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43CF-CF58-45D3-B077-82D4AD8E6E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ole tekstowe 6"/>
          <p:cNvSpPr/>
          <p:nvPr/>
        </p:nvSpPr>
        <p:spPr>
          <a:xfrm>
            <a:off x="714240" y="2000160"/>
            <a:ext cx="735804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grupie badanych 500 przedsiębiorstw, w ciągu ostatnich dwóch lat zatrudnio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2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ków kadry zarządzające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stanowiska specjalistyczne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yjęto 185 osó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ako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średni personel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trudniono 167 osó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decydowanie liczniejszą grupę stanowili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cy usług osobistych i sprzedawc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301 osó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Z przeprowadzonej ankiety wynika, że większość nowoprzyjętych pracowników (875 osób) stanowiły osoby wykonujące prace pro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301B-00C2-47C7-8C7F-518C3A51C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ole tekstowe 6"/>
          <p:cNvSpPr/>
          <p:nvPr/>
        </p:nvSpPr>
        <p:spPr>
          <a:xfrm>
            <a:off x="714240" y="185724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nowo zatrudnionych pracowników stanowiły osoby w przedziale wiekowym 25-34 l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2" descr=""/>
          <p:cNvPicPr/>
          <p:nvPr/>
        </p:nvPicPr>
        <p:blipFill>
          <a:blip r:embed="rId1"/>
          <a:stretch/>
        </p:blipFill>
        <p:spPr>
          <a:xfrm>
            <a:off x="1071720" y="2749680"/>
            <a:ext cx="7143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1f497d"/>
                </a:solidFill>
                <a:latin typeface="Arial"/>
              </a:rPr>
              <a:t>Cel bad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Badanie lokalnego rynku pracy na terenie powiatu olsztyńskiego, miało na celu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  <a:ea typeface="Arial"/>
              </a:rPr>
              <a:t>zdiagnozowanie zapotrzebowania pracodawców na kwalifikacje i umiejętności zawodowe kandydatów do pracy  oraz usługi i instrumenty rynku prac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Cele szczegółowe projektu t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Analiza sytuacji na lokalnym rynku pracy, jego dynamiki oraz kierunków zmi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kreślenie  popytu na pracę w odniesieniu do ilości tworzonych przez pracodawców miejsc pracy posiadanych ofert pracy oraz pożądanych kwalifikacji i umiejętności zawodowych kandydatów do prac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kreślenie zapotrzebowania pracodawców na usługi i instrumenty rynku pracy realizowane przez urząd</a:t>
            </a:r>
            <a:r>
              <a:rPr b="0" lang="pl-P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75A0-EC0C-4F78-AFED-29F728B5DE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8956-0283-468D-87DD-FD0619A3A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ole tekstowe 6"/>
          <p:cNvSpPr/>
          <p:nvPr/>
        </p:nvSpPr>
        <p:spPr>
          <a:xfrm>
            <a:off x="684360" y="1916280"/>
            <a:ext cx="799128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nad 40% pracodawców zatrudniło w ciągu ostatnich dwóch lat absolwentów szkół, osoby uczące się oraz osoby powyżej 50 roku życ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drugim biegunie znajdują się osoby niepełnosprawne, które w ostatnich dwóch latach zatrudniło tylko nieco ponad 8% pracodawc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1071720" y="3357720"/>
            <a:ext cx="71434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9EF7-768B-43E9-9B1D-AAB9CA7268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ole tekstowe 6"/>
          <p:cNvSpPr/>
          <p:nvPr/>
        </p:nvSpPr>
        <p:spPr>
          <a:xfrm>
            <a:off x="714240" y="185724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zatrudnionych osób stanowiły osoby z wykształceniem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zasadniczym zawodowym oraz średnim zawodowy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1187280" y="2852640"/>
            <a:ext cx="69296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kala zwolnień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6BB7-B181-4FCD-A606-A6356CAAE0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ole tekstowe 7"/>
          <p:cNvSpPr/>
          <p:nvPr/>
        </p:nvSpPr>
        <p:spPr>
          <a:xfrm>
            <a:off x="785880" y="1643040"/>
            <a:ext cx="7572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77 pracodawców zwalniało pracowników w ciągu ostatnich dwóch lat. Łącznie zwolnili oni 403 osob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65% osób zwolnionych w ciągu ostatnich dwóch lat to właśnie pracownicy stanowisk przy pracach prostych, usług osobistych i sprzedaw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mal dwukrotnie częściej dochodzi do zwalniania mężczyzn niż kobiet, co może wiązać się z większą ruchliwością mężczyzn na rynku pra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ajwięcej firm zwalniało osoby w przedziale wiekowym między 35 a 44 rokiem ży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decydowana większość spośród zwolnionych z pracy, tj. 52% to osoby powyżej 50 roku ży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ajrzadziej zwalnianymi przez pracodawców były osoby niepełnosprawne oraz kobiety, które urodziły dziecko, łącznie obie grupy stanowiły 8,6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6077-14A3-4F37-9AEC-E4C1C55BB7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ole tekstowe 6"/>
          <p:cNvSpPr/>
          <p:nvPr/>
        </p:nvSpPr>
        <p:spPr>
          <a:xfrm>
            <a:off x="785880" y="1989000"/>
            <a:ext cx="7358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Ewaluacja potrzeb szkoleniowych </a:t>
            </a:r>
            <a:br>
              <a:rPr sz="4800"/>
            </a:b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w badanych przedsiębiorstwa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truktura wykształcenia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39C2-1DF2-4B2B-A16C-3902DFAF54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ole tekstowe 6"/>
          <p:cNvSpPr/>
          <p:nvPr/>
        </p:nvSpPr>
        <p:spPr>
          <a:xfrm>
            <a:off x="785880" y="185724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co ponad 40% przedstawicieli badanych przedsiębiorstw z powiatu olsztyńskiego wskazało, że dominującym wykształceniem wśród ich pracowników jest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wykształcenie średnie ogólnokształcą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1214280" y="3214800"/>
            <a:ext cx="70470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Poziom zadowolenia z wykształcenia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03DF-1933-47DE-9B54-D6F30E820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ole tekstowe 6"/>
          <p:cNvSpPr/>
          <p:nvPr/>
        </p:nvSpPr>
        <p:spPr>
          <a:xfrm>
            <a:off x="857160" y="5286240"/>
            <a:ext cx="7358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decydowana większość badanych odpowiedziała, że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jest zadowolona z wykształcenia i umiejętności swoich pracowników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1228680" y="1785960"/>
            <a:ext cx="69325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godność wykształcenia pracowników </a:t>
            </a:r>
            <a:br>
              <a:rPr sz="3200"/>
            </a:b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 wykonywanym zawod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CA5B-8509-4040-AE7B-E4C18E1B99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ole tekstowe 6"/>
          <p:cNvSpPr/>
          <p:nvPr/>
        </p:nvSpPr>
        <p:spPr>
          <a:xfrm>
            <a:off x="857160" y="528624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wie 60% przedsiębiorców wskazało, że pracownicy wykonują pracę zgodną z ich zawod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" descr=""/>
          <p:cNvPicPr/>
          <p:nvPr/>
        </p:nvPicPr>
        <p:blipFill>
          <a:blip r:embed="rId1"/>
          <a:stretch/>
        </p:blipFill>
        <p:spPr>
          <a:xfrm>
            <a:off x="1214280" y="1928880"/>
            <a:ext cx="6669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anie osób w szczególnej sytuacji </a:t>
            </a:r>
            <a:br>
              <a:rPr sz="3200"/>
            </a:b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na rynku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507D-D7D9-4A1C-8655-C8CE461A3F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ole tekstowe 6"/>
          <p:cNvSpPr/>
          <p:nvPr/>
        </p:nvSpPr>
        <p:spPr>
          <a:xfrm>
            <a:off x="857160" y="2214720"/>
            <a:ext cx="735804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wie połowa pracodawców potwierdziła, że zatrudnia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ków powyżej 50 roku ży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7% badanych oferuje pracę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kobietom po urodzeniu dzieck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Absolwenci,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którzy ukończyli szkołę w ciągu ostatnich dwóch lat  oraz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uczniowie i studenci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ą pracownikami prawie co trzeciej badanej fir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1f497d"/>
                </a:solidFill>
                <a:latin typeface="Arial"/>
              </a:rPr>
              <a:t>Zainteresowanie kształceniem pracowników/podnoszeniem ich kwalifikacji poprzez szkolen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2265-6064-43ED-91A5-83A81AB57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1100160" y="2071800"/>
            <a:ext cx="7089840" cy="3214440"/>
          </a:xfrm>
          <a:prstGeom prst="rect">
            <a:avLst/>
          </a:prstGeom>
          <a:ln w="0">
            <a:noFill/>
          </a:ln>
        </p:spPr>
      </p:pic>
      <p:sp>
        <p:nvSpPr>
          <p:cNvPr id="560" name="pole tekstowe 7"/>
          <p:cNvSpPr/>
          <p:nvPr/>
        </p:nvSpPr>
        <p:spPr>
          <a:xfrm>
            <a:off x="714240" y="5572080"/>
            <a:ext cx="75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wie połowa badanych wyraża zainteresowanie podnoszeniem kwalifikacji swoich pracowników poprzez szkol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kala dotychczasowych szkoleń pracownicz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1FB0-9180-4C54-A450-892BE8A3A3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857160" y="1785960"/>
            <a:ext cx="7286760" cy="3278160"/>
          </a:xfrm>
          <a:prstGeom prst="rect">
            <a:avLst/>
          </a:prstGeom>
          <a:ln w="0">
            <a:noFill/>
          </a:ln>
        </p:spPr>
      </p:pic>
      <p:sp>
        <p:nvSpPr>
          <p:cNvPr id="564" name="pole tekstowe 7"/>
          <p:cNvSpPr/>
          <p:nvPr/>
        </p:nvSpPr>
        <p:spPr>
          <a:xfrm>
            <a:off x="714240" y="5286240"/>
            <a:ext cx="75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tematyki, dotychczas organizowanych szkoleń, dominowały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szkolenia BHP, szkolenia z zakresu sprzedaży i obsługi klienta, administracyjno-biurowe oraz szkolenia zawodowe i specjalist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1f497d"/>
                </a:solidFill>
                <a:latin typeface="Arial"/>
              </a:rPr>
              <a:t>Metodologia bad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78552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Badanie zostało zrealizowane w okresie od października do listopada 2010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Arial"/>
                <a:ea typeface="Arial"/>
              </a:rPr>
              <a:t>Techniki i narzędzia badawcz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Analiza danych zastan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Wywiady kwestionariuszow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z przedstawicielami 500 przedsiębiorstw z powiatu olsztyńskieg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Indywidualny wywiad pogłębiony (IDI)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z przedstawicielami 30 przedsiębiorstw z powiatu olsztyńskieg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ACDF-C4AE-42D4-BAFD-C07D86DFE6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B949-9A05-455E-B0CD-8006F3A97A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ole tekstowe 6"/>
          <p:cNvSpPr/>
          <p:nvPr/>
        </p:nvSpPr>
        <p:spPr>
          <a:xfrm>
            <a:off x="1428840" y="1989000"/>
            <a:ext cx="664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Plany przedsiębiorców dotyczące zatrudnien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lokalnego rynku pracy pod kątem dostępności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07E4-136C-44C3-9FBF-2EC6CDD6B5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ole tekstowe 7"/>
          <p:cNvSpPr/>
          <p:nvPr/>
        </p:nvSpPr>
        <p:spPr>
          <a:xfrm>
            <a:off x="642960" y="1717560"/>
            <a:ext cx="757224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5% przedsiębiorców z powiatu olsztyńskiego wskazało na brak trudności z dostępnością pracowników na lokalnym rynku pra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rudności w tym zakresie dostrzega łącznie 29,7% bada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mniejsze problemy ze znalezieniem nowych pracowników mają przedsiębiorstwa związane z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nieruchomościami, organizacje i stowarzyszenia oraz przedsiębiorstwa z branży finansowe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e trudności w znalezieniu nowych pracowników pojawiają się w przedsiębiorstwach z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branży motoryzacyjnej oraz w jednostkach służby zdrowi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interesowanie zatrudnieniem pracowników w ciągu kolejny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7504-E536-4944-B0BC-2CFA7712A9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ole tekstowe 7"/>
          <p:cNvSpPr/>
          <p:nvPr/>
        </p:nvSpPr>
        <p:spPr>
          <a:xfrm>
            <a:off x="857160" y="5429160"/>
            <a:ext cx="75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koło 19% objętych badaniem osób stwierdziło, iż planuje w okresie kolejnych dwóch lat przyjąć nowych pracownik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1214280" y="1785960"/>
            <a:ext cx="69789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lokalnego rynku pracy pod kątem dostępności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0F72-3307-45B5-B48E-24059E8BE4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ole tekstowe 7"/>
          <p:cNvSpPr/>
          <p:nvPr/>
        </p:nvSpPr>
        <p:spPr>
          <a:xfrm>
            <a:off x="642960" y="2500200"/>
            <a:ext cx="774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Badani przedsiębiorcy z terenu powiatu olsztyńskiego </a:t>
            </a:r>
            <a:br>
              <a:rPr sz="2000"/>
            </a:b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w większości deklarują, że zatrudniliby więcej pracowników mając wsparcie lokalnych instytucji rynku pr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potrzebowanie na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9A7A-704E-4570-9981-01AC50468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ole tekstowe 7"/>
          <p:cNvSpPr/>
          <p:nvPr/>
        </p:nvSpPr>
        <p:spPr>
          <a:xfrm>
            <a:off x="500040" y="2071800"/>
            <a:ext cx="757224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dawcy, którzy wzięli udział w badaniu najczęściej poszukują pracowników na stanowiska związane z działalnością gastronomiczną, tj.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kelnera, barmana, pomoc kuchenną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t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respondentów pojawiła się dość znaczna grupa właścicieli przedsiębiorstw, którzy obecnie poszukują do pracy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robotników oraz wysoko wyspecjalizowanych pracowników w branży budowlanej, np. murarza, operatora wiertn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potrzebowanie na pracowników – wymagania wobec kandydat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F2B5-10B4-493D-8527-698AA64DCA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ole tekstowe 7"/>
          <p:cNvSpPr/>
          <p:nvPr/>
        </p:nvSpPr>
        <p:spPr>
          <a:xfrm>
            <a:off x="857160" y="2786040"/>
            <a:ext cx="714384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jwiększym zainteresowaniem ze strony badanych cieszą się osoby z </a:t>
            </a: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wykształceniem średnim zawodowym, zasadniczym zawodowym oraz wyższy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potrzebowanie na pracowników – wymagania wobec kandydat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C615-1273-45C9-A4A9-1D18F7F43D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ole tekstowe 7"/>
          <p:cNvSpPr/>
          <p:nvPr/>
        </p:nvSpPr>
        <p:spPr>
          <a:xfrm>
            <a:off x="857160" y="1643040"/>
            <a:ext cx="714384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Arial"/>
              </a:rPr>
              <a:t>Podstawowe wymagania stawiane kandydat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siadanie prawa jazdy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38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miejętność obsługi komputer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36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najomości metod sprzedaży bezpośredniej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34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miejętność obsługi maszyn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tokarz, stolarz, etc.) (30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dstawowa wiedza z zakresu księgowości, ekonomii i finansów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28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potrzebowanie na pracowników – wymagania wobec kandydat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B00A-5900-4FE8-B455-EF049B42DD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ole tekstowe 7"/>
          <p:cNvSpPr/>
          <p:nvPr/>
        </p:nvSpPr>
        <p:spPr>
          <a:xfrm>
            <a:off x="285840" y="2428920"/>
            <a:ext cx="500040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munikatywność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68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najomość branży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44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ofesjonalizm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38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dpowiedzialność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38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dporność na stres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36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ole tekstowe 7"/>
          <p:cNvSpPr/>
          <p:nvPr/>
        </p:nvSpPr>
        <p:spPr>
          <a:xfrm>
            <a:off x="4357800" y="2786040"/>
            <a:ext cx="4572000" cy="27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miejętność szybkiego uczenia się/podnoszenia kwalifikacji zawodowyc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h (35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otywacja do pracy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35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miejętność dobrej organizacji prac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y (35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ole tekstowe 7"/>
          <p:cNvSpPr/>
          <p:nvPr/>
        </p:nvSpPr>
        <p:spPr>
          <a:xfrm>
            <a:off x="1071720" y="2071800"/>
            <a:ext cx="6929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Arial"/>
              </a:rPr>
              <a:t>Dodatkowe wymagania stawiane kandydatom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interesowanie zatrudnieniem osób w szczególnej sytuacji na rynku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3512-9955-4161-B807-837FF5C057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ole tekstowe 7"/>
          <p:cNvSpPr/>
          <p:nvPr/>
        </p:nvSpPr>
        <p:spPr>
          <a:xfrm>
            <a:off x="785880" y="1785960"/>
            <a:ext cx="757224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nad połowa przedsiębiorców objętych badaniem nie planuje przyjęć do pracy osób, które znajdują się w szczególnej sytuacji na rynku pra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hęć zatrudnienia w swojej firmie pracownika spośród tej grupy osób wyraża 29% bada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1357200" y="3500280"/>
            <a:ext cx="642960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kala zwolnień pracowników w ciągu najbliższy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9C8F-7AA0-4492-959E-597315C9B3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ole tekstowe 7"/>
          <p:cNvSpPr/>
          <p:nvPr/>
        </p:nvSpPr>
        <p:spPr>
          <a:xfrm>
            <a:off x="785880" y="2071800"/>
            <a:ext cx="75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Około 4% przedsiębiorców zamierza zwalniać pracowników w ciągu najbliższych dwóch l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ole tekstowe 5"/>
          <p:cNvSpPr/>
          <p:nvPr/>
        </p:nvSpPr>
        <p:spPr>
          <a:xfrm>
            <a:off x="3286080" y="2928960"/>
            <a:ext cx="3024360" cy="1079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yczyny planowanych zwolni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trzałka w dół 6"/>
          <p:cNvSpPr/>
          <p:nvPr/>
        </p:nvSpPr>
        <p:spPr>
          <a:xfrm>
            <a:off x="4572000" y="4000680"/>
            <a:ext cx="431640" cy="144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ole tekstowe 8"/>
          <p:cNvSpPr/>
          <p:nvPr/>
        </p:nvSpPr>
        <p:spPr>
          <a:xfrm>
            <a:off x="928800" y="4429080"/>
            <a:ext cx="60721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alejące dochody przedsiębiorst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miar likwidacji przedsiębiorstwa lub poszczególnych placów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ieczność redukcji zatrudni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gaśnięcie umowy stażow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ne pow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783D-DCF1-43F8-9A59-9DB9447E9F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ole tekstowe 6"/>
          <p:cNvSpPr/>
          <p:nvPr/>
        </p:nvSpPr>
        <p:spPr>
          <a:xfrm>
            <a:off x="714240" y="2143080"/>
            <a:ext cx="7715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Ogólna charakterystyka przedsiębiorstw biorących udział w badani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D4FC-5267-422C-9AEA-2B51ADAD1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ole tekstowe 9"/>
          <p:cNvSpPr/>
          <p:nvPr/>
        </p:nvSpPr>
        <p:spPr>
          <a:xfrm>
            <a:off x="1214280" y="1989000"/>
            <a:ext cx="6715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Współpraca z Urzędem Pracy Powiatu Olsztyńskie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Poziom wiedzy na temat oferowanych przez Urząd form wspar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366D-CC5C-4055-9138-0EB8B30121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ole tekstowe 7"/>
          <p:cNvSpPr/>
          <p:nvPr/>
        </p:nvSpPr>
        <p:spPr>
          <a:xfrm>
            <a:off x="785880" y="2071800"/>
            <a:ext cx="757224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zedsiębiorcy posiadający w swojej ocenie dobrą wiedzę na temat wsparcia udzielanego przez Urząd Pracy Powiatu Olsztyńskiego stanowią 23% ogółu badany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ardzo dobrze w tej kwestii orientuje się 8,3% przedstawicieli przedsiębiorst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ole tekstowe 8"/>
          <p:cNvSpPr/>
          <p:nvPr/>
        </p:nvSpPr>
        <p:spPr>
          <a:xfrm>
            <a:off x="1071720" y="4214880"/>
            <a:ext cx="72864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Źródła wiedz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edia i prasa (32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wnicy urzędu (31,6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ternet (29,5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Współpraca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B2B2-8D92-44EA-B213-BE3B2F0DE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2" descr=""/>
          <p:cNvPicPr/>
          <p:nvPr/>
        </p:nvPicPr>
        <p:blipFill>
          <a:blip r:embed="rId1"/>
          <a:stretch/>
        </p:blipFill>
        <p:spPr>
          <a:xfrm>
            <a:off x="1428840" y="1785960"/>
            <a:ext cx="6357960" cy="3027240"/>
          </a:xfrm>
          <a:prstGeom prst="rect">
            <a:avLst/>
          </a:prstGeom>
          <a:ln w="0">
            <a:noFill/>
          </a:ln>
        </p:spPr>
      </p:pic>
      <p:sp>
        <p:nvSpPr>
          <p:cNvPr id="610" name="pole tekstowe 6"/>
          <p:cNvSpPr/>
          <p:nvPr/>
        </p:nvSpPr>
        <p:spPr>
          <a:xfrm>
            <a:off x="571680" y="4857840"/>
            <a:ext cx="764352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zyczyny braku współprac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zatrudnianie nowych pracownik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Mała aktywność działań podejmowanych przez Urzą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rak cza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Fragmentarycznej wiedzy na temat dostępnych form wspar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Formy współpracy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30ED-1F55-41B5-8DC2-EB428291E7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ole tekstowe 6"/>
          <p:cNvSpPr/>
          <p:nvPr/>
        </p:nvSpPr>
        <p:spPr>
          <a:xfrm>
            <a:off x="642960" y="2500200"/>
            <a:ext cx="7643880" cy="26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jczęstszą formą wsparcia ze strony Urzędu, z której korzystają przedsiębiorcy są</a:t>
            </a: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 staże, dofinansowania do stanowiska pracy oraz pośrednictwo prac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wielu wypadkach współpraca ta opiera się również na pracach interwencyjnych oraz pomocy w poszukiwaniu pracownik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współpracy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A32D-258C-4581-901C-51A0AE14A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ole tekstowe 6"/>
          <p:cNvSpPr/>
          <p:nvPr/>
        </p:nvSpPr>
        <p:spPr>
          <a:xfrm>
            <a:off x="642960" y="1857240"/>
            <a:ext cx="7643880" cy="10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Ponad 86% badanych twierdzi, że z Urzędem współpracuje się dobrze albo bardzo dobrz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1214280" y="3214800"/>
            <a:ext cx="66754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współpracy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F678-9A71-4237-9A48-D717E7E5C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ole tekstowe 6"/>
          <p:cNvSpPr/>
          <p:nvPr/>
        </p:nvSpPr>
        <p:spPr>
          <a:xfrm>
            <a:off x="714240" y="5286240"/>
            <a:ext cx="7643880" cy="13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ogólnej ocenie ponad 3/4 przedsiębiorców współpracujących z Urzędem Pracy jest zadowolonych z pozyskanych dzięki tej współpracy pracowników</a:t>
            </a: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2" descr=""/>
          <p:cNvPicPr/>
          <p:nvPr/>
        </p:nvPicPr>
        <p:blipFill>
          <a:blip r:embed="rId1"/>
          <a:stretch/>
        </p:blipFill>
        <p:spPr>
          <a:xfrm>
            <a:off x="1000080" y="2000160"/>
            <a:ext cx="72230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współpracy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2CC7-AEA2-47A7-8EDF-70850C1A7F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ole tekstowe 6"/>
          <p:cNvSpPr/>
          <p:nvPr/>
        </p:nvSpPr>
        <p:spPr>
          <a:xfrm>
            <a:off x="857160" y="1428840"/>
            <a:ext cx="7643880" cy="13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ocenie ponad jednej trzeciej przedsiębiorców z powiatu olsztyńskiego </a:t>
            </a: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stopień skomplikowania procedur oraz dokumentacji stosowanych przez Urząd jest nis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2" descr=""/>
          <p:cNvPicPr/>
          <p:nvPr/>
        </p:nvPicPr>
        <p:blipFill>
          <a:blip r:embed="rId1"/>
          <a:stretch/>
        </p:blipFill>
        <p:spPr>
          <a:xfrm>
            <a:off x="1357200" y="3071880"/>
            <a:ext cx="70009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interesowanie współpracą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4C06-98C3-4955-AA50-3BE7D8DBF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ole tekstowe 6"/>
          <p:cNvSpPr/>
          <p:nvPr/>
        </p:nvSpPr>
        <p:spPr>
          <a:xfrm>
            <a:off x="785880" y="2357280"/>
            <a:ext cx="764388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ski stopień skomplikowania procedur stosowanych przez Urząd Pracy Powiatu Olsztyńskiego może mieć pozytywny wpływ na chęć podejmowania współpracy z Urzędem również przez podmioty, które do tej pory nie korzystały z jego wspar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interesowanie współpracą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C06F-EB92-49CC-AD1F-E6C3A1D395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ole tekstowe 5"/>
          <p:cNvSpPr/>
          <p:nvPr/>
        </p:nvSpPr>
        <p:spPr>
          <a:xfrm>
            <a:off x="2428920" y="1928880"/>
            <a:ext cx="4000320" cy="1079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eferowane formy współpracy z Urzęd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ole tekstowe 11"/>
          <p:cNvSpPr/>
          <p:nvPr/>
        </p:nvSpPr>
        <p:spPr>
          <a:xfrm>
            <a:off x="1071720" y="3357720"/>
            <a:ext cx="6643440" cy="32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taże (43,3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efundacja kosztów doposażenia lub wyposażenia stanowiska pracy dla skierowanego bezrobotnego (38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rganizacja przygotowania zawodowego dla dorosłych (19,3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ace interwencyjne (15,2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trzałka w dół 13"/>
          <p:cNvSpPr/>
          <p:nvPr/>
        </p:nvSpPr>
        <p:spPr>
          <a:xfrm>
            <a:off x="4286160" y="3000240"/>
            <a:ext cx="432000" cy="144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Podsumowa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6609-9AD6-4CA8-A2C2-C404D47C41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ole tekstowe 11"/>
          <p:cNvSpPr/>
          <p:nvPr/>
        </p:nvSpPr>
        <p:spPr>
          <a:xfrm>
            <a:off x="857160" y="2143080"/>
            <a:ext cx="7072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ak wynika z przeprowadzonego badania powiat olsztyński ma predyspozycję do rozwoju oraz wchłonięcia nowej siły roboczej. Istotne jest jednak nawiązanie ścisłej współpracy pracodawców z pracownikami  Urzędu Pracy Powiatu Olsztyńskiego, co pozwoli na dobór instrumentów i usług rynku pracy, które sprawią, iż osoby bezrobotne staną się bardziej atrakcyjne dla potencjalnych pracodawc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gólna charakterystyka przedsiębiorstw biorących udział w badan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F2CD-F309-4546-8380-1C79E7508B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ole tekstowe 6"/>
          <p:cNvSpPr/>
          <p:nvPr/>
        </p:nvSpPr>
        <p:spPr>
          <a:xfrm>
            <a:off x="357120" y="2143080"/>
            <a:ext cx="856944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iększość z badanych przedsiębiorstw powstało w ostatnich pięciu bądź dziesięciu l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adaniem objęto jednostki, których siedziba znajdowała się na terenie powiatu olsztyńskiego lub też, których siedziba zlokalizowana na tym terenie posiadała samodzielną politykę personaln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a ich liczba znajduje się w mieście Biskupiec oraz Barczewo (w sumie ponad 42%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uczestników badania (63% jednostek) stanowiły osoby fizyczne prowadzące działalność gospodarcz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3"/>
          <p:cNvSpPr/>
          <p:nvPr/>
        </p:nvSpPr>
        <p:spPr>
          <a:xfrm>
            <a:off x="3419640" y="5589720"/>
            <a:ext cx="31557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Berlin Sans FB Demi"/>
              </a:rPr>
              <a:t>www.bio</a:t>
            </a:r>
            <a:r>
              <a:rPr b="0" lang="pl-PL" sz="2000" spc="-1" strike="noStrike">
                <a:solidFill>
                  <a:srgbClr val="c00000"/>
                </a:solidFill>
                <a:latin typeface="Berlin Sans FB Demi"/>
              </a:rPr>
              <a:t>s</a:t>
            </a:r>
            <a:r>
              <a:rPr b="0" lang="pl-PL" sz="2000" spc="-1" strike="noStrike">
                <a:solidFill>
                  <a:srgbClr val="000000"/>
                </a:solidFill>
                <a:latin typeface="Berlin Sans FB Demi"/>
              </a:rPr>
              <a:t>tat.com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76092"/>
                </a:solidFill>
                <a:latin typeface="Arial"/>
              </a:rPr>
              <a:t>Dziękujemy za uwag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2" descr="BioStat - Logo"/>
          <p:cNvPicPr/>
          <p:nvPr/>
        </p:nvPicPr>
        <p:blipFill>
          <a:blip r:embed="rId1"/>
          <a:stretch/>
        </p:blipFill>
        <p:spPr>
          <a:xfrm>
            <a:off x="3500280" y="5229360"/>
            <a:ext cx="2224080" cy="360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3" descr=""/>
          <p:cNvPicPr/>
          <p:nvPr/>
        </p:nvPicPr>
        <p:blipFill>
          <a:blip r:embed="rId2"/>
          <a:stretch/>
        </p:blipFill>
        <p:spPr>
          <a:xfrm>
            <a:off x="0" y="0"/>
            <a:ext cx="2800440" cy="13572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25" descr="UE+EFS_L-kolor"/>
          <p:cNvPicPr/>
          <p:nvPr/>
        </p:nvPicPr>
        <p:blipFill>
          <a:blip r:embed="rId3"/>
          <a:stretch/>
        </p:blipFill>
        <p:spPr>
          <a:xfrm>
            <a:off x="6659640" y="404640"/>
            <a:ext cx="209844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sięg terytorialny przedsiębiorstw biorących udział w badan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C26C-CC5C-45CA-A56C-D64AA534A9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2" descr=""/>
          <p:cNvPicPr/>
          <p:nvPr/>
        </p:nvPicPr>
        <p:blipFill>
          <a:blip r:embed="rId1"/>
          <a:stretch/>
        </p:blipFill>
        <p:spPr>
          <a:xfrm>
            <a:off x="1357200" y="2071800"/>
            <a:ext cx="6429600" cy="2990880"/>
          </a:xfrm>
          <a:prstGeom prst="rect">
            <a:avLst/>
          </a:prstGeom>
          <a:ln w="0">
            <a:noFill/>
          </a:ln>
        </p:spPr>
      </p:pic>
      <p:sp>
        <p:nvSpPr>
          <p:cNvPr id="482" name="pole tekstowe 6"/>
          <p:cNvSpPr/>
          <p:nvPr/>
        </p:nvSpPr>
        <p:spPr>
          <a:xfrm>
            <a:off x="1000080" y="5429160"/>
            <a:ext cx="678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jwiększy odsetek badanych przedsiębiorstw - 58% - obejmuje swoim zasięgiem działania biznesowego obszar powia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truktura zatrudnienia w badanych przedsiębiorstw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8D20-6608-4AE4-9A98-8C4B4C55CB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ole tekstowe 6"/>
          <p:cNvSpPr/>
          <p:nvPr/>
        </p:nvSpPr>
        <p:spPr>
          <a:xfrm>
            <a:off x="1000080" y="1928880"/>
            <a:ext cx="6786720" cy="42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Kadra zarządzając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stępuje w prawie 40% badanych firm, jednakże w znacznej części przedsiębiorstw do tego grona zaliczał się właściciel, bądź współwłaściciel fir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e względu na duży udział firm o charakterze handlowo-usługowym w przypadku połowy badanych przedsiębiorstw zatrudnieni są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cy usług osobistych oraz sprze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Kadra specjalistów oraz pracowników biurowych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stępuje w około jednej trzeciej badanych jednoste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cy pracujący przy pracach prostych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atrudnieni są w 40% badanych fi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truktura wiekowa zatrudnionych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0741-AD2E-4AEF-94E0-F240C9F2E0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ole tekstowe 6"/>
          <p:cNvSpPr/>
          <p:nvPr/>
        </p:nvSpPr>
        <p:spPr>
          <a:xfrm>
            <a:off x="1000080" y="1928880"/>
            <a:ext cx="678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wnicy w wieku pomiędzy 25 a 34 lat dominują w 37% badanych przedsiębiorstw. Prawie jedna piąta odpowiedzi wskazywała na przedział pomiędzy 35-44 lat jako dominujący wiek zatrudnionych pracownik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1428840" y="3279600"/>
            <a:ext cx="636912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Dominująca forma zatrudnienia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81AF-64A0-4848-B5C4-68D03E31FC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ole tekstowe 6"/>
          <p:cNvSpPr/>
          <p:nvPr/>
        </p:nvSpPr>
        <p:spPr>
          <a:xfrm>
            <a:off x="1000080" y="1928880"/>
            <a:ext cx="678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onad połowie badanych przedsiębiorstw z powiatu olsztyńskiego dominującym rodzajem umowy jest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umowa na czas nieokreślon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1357200" y="3286080"/>
            <a:ext cx="64501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10:37:49Z</dcterms:created>
  <dc:creator>mszkarlat BioStat</dc:creator>
  <dc:description/>
  <dc:language>en-US</dc:language>
  <cp:lastModifiedBy>Michal</cp:lastModifiedBy>
  <dcterms:modified xsi:type="dcterms:W3CDTF">2010-12-12T15:17:50Z</dcterms:modified>
  <cp:revision>356</cp:revision>
  <dc:subject/>
  <dc:title>Badanie ewaluacyjne  projektu systemowego  „Cel – praca”</dc:title>
</cp:coreProperties>
</file>