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0D3-FF5A-4A22-9FD1-324AB44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D2-1A07-4F46-802D-EE39C64E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C77-79FB-43F7-B26E-EFEF3C2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2C1-6B3E-424B-88E0-92443ACB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C06-D1F5-4027-9E41-4C32C1A0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17E2-7DAC-4F87-93AB-591CBB5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1E7-E623-4A10-B49A-0719928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380D-F5B2-498C-AD0D-CB02198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D91-FC8F-4582-BB5E-2E7700E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786-F849-4D1A-B29C-3F775071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8D5-3A08-47C2-9F24-D25391B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B84-4741-4F61-BAAD-8AB0BC24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6FD-934F-4606-BD83-356688D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C9E8-1FE8-4B32-9A47-EBBA5D7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5001-F9EC-403C-B14A-266D58C2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DFD-C3BE-44AD-8C99-6C02502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D08-36C5-48DE-A0F5-CC2725DA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230-8539-4085-AC9A-232B8928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D91-EC41-4FC2-95F3-9448C5B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9E9-E925-4029-8C01-ED71360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1FB-308C-48CE-AAB4-8DFA4A6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196-CF7C-4A49-8AE3-3E6B811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369-05A5-4A73-9479-D73B52D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A83-7884-4636-86C1-C3EA7FD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3250-4053-442F-B8A7-7F1AFDC5D04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FB5-4CBF-45E5-B3D5-C385128474C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raz.praca.gov.pl/" TargetMode="External"/><Relationship Id="rId3" Type="http://schemas.openxmlformats.org/officeDocument/2006/relationships/hyperlink" Target="http://www.up.gov.p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AGENCJE ZATRUDNIENIA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7993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gulacje prawne dotyczące rejestracji agencji zatrudnienia oraz prowadzenia agencji zatrudnie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lsztyn 25.04.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ziałania WUP 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zpatrzono 6 wniosków podmiotów ubiegających się o wpis do Krajowego Rejestru Agencji Zatrudnienia i dokonano wpisu do KRAZ, wydano 25 certyfikatów wstępnych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zyjęto i rozpatrzono 6 wniosków agencji zatrudnienia, ubiegających się o certyfikaty bezterminowe. Przygotowano i przekazano zainteresowanym 10 certyfikatów bezterminowyc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ysłano 13 wniosków do Sądu Rejonowego w Olsztynie o : ukaranie karą grzywny agencji, które nie dokonały zwrotu certyfikatu(12),ukaranie karą grzywny agencji, która pobierała nienależne świadczenia(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tworzono zakładkę FAQ, gdzie umieszczano informacje dla agencj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WARUNKI PROWADZENIA AGENCJI ZATRUDNIE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odmiot zamierzający wykonywać usługi lub świadczący usługi, o których mowa w art. 18 ust. 1, powinien spełniać następujące warunk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e posiadać zaległości z tytułu podatków, składek, na ubezpieczenie społeczne, ubezpieczenie zdrowotne oraz na Fundusz Pracy i Fundusz Gwarantowanych Świadczeń Pracowniczych, o ile był obowiązany do ich opłacan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ć nie karanym za przestępstwa lub wykroczenia, o których mowa w art. 121 ustaw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ć podmiotem, w stosunku do którego nie      została otwarta likwidacja lub nie ogłoszono  jego upadłości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posiadać lokal przeznaczony na biuro agencji zatrudnienia zapewniający poufność prowadzonych rozmów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posiadać wyposażenie techniczne umożliwiające prowadzenie działalności agencji zatrudnien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la osób korzystających z usług w zakres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radnictwa zawodowego oraz doradztwa personalnego, zapewnić osoby z wykształceniem wyższym magisterskim lub innym równoważnym, których program studiów obejmował przygotowanie w zakresie poradnictwa zawodowego albo doradztwa personalnego, lub które posiadają co najmniej roczne doświadczenie zawodowe w pracy na stanowisku doradcy zawodowego lub doradcy personalnego w publicznych służbach zatrudnienia lub agencjach zatrudnieni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Tahoma"/>
              </a:rPr>
              <a:t>b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średnictwa pracy oraz pracy tymczasowej, zapewnić osoby z wykształceniem minimum średn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przetwarzać dane osobow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zgodnie z przepisami o ochronie danych osobow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gencja zatrudnienia ma obowiązek informowania o każdej zmianie danych objętych wnioskiem, a także o zaprzestaniu działalności w terminie 14 dni-zgodnie z art. 67 ustawy o swobodzie działalności gospodarczej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gencja zatrudnienia ma obowiązek przedstawiania marszałkowi województwa informacji o działalności agencji zatrudnienia, w terminie do dnia 31 stycznia każdego roku, za rok poprzedni (formularz informacyjny o działalności agencji określony jest w zał. Nr 4 rozporządzeni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encja nie może dyskryminować ze względu na płeć , wiek, niepełnosprawność, rasę, pochodzenie etniczne, narodowość, orientację seksualną, przekonania polityczne i wyznanie religijne , ani ze względu na przynależność związkową osób , dla których poszukuje zatrudnienia lub innej pracy zarobkowej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encja nie może pobierać opłat od osób , dla których poszukuje zatrudnienia lub innej pracy zarobkowej (wyjątek stanowi art.85, ust.2 pkt cytowanej we wstępie ustawy)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 ogłoszeniach , dokumentach , ofertach pracy agencja zatrudnienia podaje numer wpisu do KRAZ , a agencja pracy tymczasowej podaje ponadto określenie „agencja pracy tymczasowej”. Oferty pracy ogłaszane przez agencje pracy tymczasowej są oznaczone jako oferty pracy tymczasowej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encja pośrednictwa do pracy za granicą ma obowiązek realizować swoją działalność, w zakresie kierowania obywateli polskich do pracy za granicą u pracodawców zagranicznych , w trybie art..85 ustawy z dnia 20 kwietnia 2004 r. o promocji zatrudnienia i instytucjach rynku prac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WYMOGI WPROWADZONE NOWELIZACJĄ USTAWY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(art. 85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Od 1.11.2005 r. wprowadzony został nowy katalog kosztów, za które agencja zatrudnienia może pobierać  od kierowanych osób opłaty z tytułu faktycznie poniesionych kosztów (art. 85 ust. 2 pkt. 7 ustawy o promocji zatrudnienia i instytucjach rynku prac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Koszty te dotycz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jazdu i powrotu osoby skierowane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ydania wiz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dań lekarsk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łumaczenia dokumentó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WYMOGI WPROWADZONE NOWELIZACJĄ USTAWY C.D.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(art. 12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prowadzono dodatkowe sankcje karne (grzywnę) z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wadzenie agencji zatrudnienia i pobieranie od osoby, dla której poszukuje zatrudnienia, innej pracy zarobkowej lub której udziela pomocy w wyborze odpowiedniego zawodu i miejsca zatrudnienia, dodatkowych opłat innych niż wyżej wymienione-grzywna nie niższa niż 3 000 z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WYMOGI WPROWADZONE NOWELIZACJĄ USTAWY C.D.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(art. 12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e zwrócenie certyfikatu wstępnego lub certyfikatu w terminie miesiąca od dnia otrzymania decyzji o wykreśleniu z rejestru – grzywna nie niższa niż 2 000 z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e złożenie przez przedsiębiorcę z UE/EOG informacji o zamiarze świadczenia tymczasowego usług na terenie Polski-grzywna nie niższa ni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000 z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tatystyka 2006/200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Agencje pośrednictwa pracy w zakresie pośrednictwa na terenie R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Liczba osób, które zostały wpisane do ewidencji osób poszukujących pracy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6760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7554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+7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Liczba osób , które podjęły zatrudnieni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a pośrednictwem agencji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57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780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+2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Liczba pozyskanych miejsc pracy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2039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1267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-77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WYKAZ AKTÓW PRAWNY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147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tawa z dnia 20 kwietnia 2004 r. o promocji zatrudnienia i instytucjach rynku pracy (Dz. U. Nr 99, poz. 1001, z późn. zm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zporządzenie Ministra Gospodarki i Pracy z dnia 13.10.2005 r. w sprawie wpisu do rejestru podmiotów prowadzących agencje zatrudnienia oraz informacji składanych przez agencje zatrudnienia (Dz. U. Nr 212 z 2005 r. poz. 177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tawa z dnia 2 lipca 2004 r. o swobodzie działalności gospodarczej (Dz. U. z 2004 r. Nr 173, poz. 1807, z późn. zm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tawa z dnia 14 czerwca 1960 r. – Kodeks postępowania administracyjnego (Dz. U. z 2000 r. Nr 98, poz. 1071, z późn. zm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tatystyka c.d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Agencje pośrednictwa pracy w zakresie pośrednictwa do pracy za granic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Liczba osób skierowanych do pracy za granicą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76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445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-3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tatystyka c.d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Agencje doradztwa personaln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Liczba pracodawców , korzystających z usług w zakresie prowadzenia analizy zatrudnienia…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75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952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+1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Liczba pracodawców , korzystających z usług w zakresie wskazywania źródeł i metod pozyskiwania pracowników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11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75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 (-3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Liczba pracodawców , korzystających z usług w zakresie weryfikacji kandydatów…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115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2007-73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-4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tatystyka c.d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Agencje poradnictwa zawodow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Liczba osób korzystających z pomocy w wyborze odpowiedniego zawodu/miejsca zatrudnieni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545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3149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(-23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Liczba osób korzystających z informacji zawodowyc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126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944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(-32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Liczba pracodawców korzystających z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formacji zawodowych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06-4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 2007-36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 (-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tatystyka c.d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Agencje pracy tymczasow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Liczba osób skierowanych do wykonywania pracy tymczasowe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006-111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 2007-464 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(-64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Liczba pracodawców użytkowników korzystających z usług agencji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006-63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 2007-19 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(-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WYKAZ AGENCJI ZATRUDNIE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ykaz agencji zatrudnienia znajduje się na stronie internetowej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raz.praca.gov.p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datkowe informacje umieszczone są na stronie internetowej naszego urzę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up.gov.p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AGENCJE ZATRUDNIENIA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-PODSTAWY PRAWNE-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tawa z dnia 20 kwietnia 2004 r. o promocji zatrudnienia i instytucjach rynku prac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z. U. Nr 99, poz. 1001, z późn. zm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części dotyczącej agencji zatrudnien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„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Rozdział 6”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.. 18-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„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Rozdział 16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. 84-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„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Rozdział 20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. 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INSTYTUCJE RYNKU PRA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nstytucjami rynku pracy realizującymi zadania określone w ustawie o promocji zatrudnienia i instytucjach rynku pracy s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</a:rPr>
              <a:t>Publiczne Służby Zatrudni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hotnicze Hufce P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</a:rPr>
              <a:t>Agencje Zatrudni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ytucje Szkoleniow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ytucje Dialogu Społeczn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ytucje Partnerstwa Lokaln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PUBLICZNE SŁUŻBY ZATRUDNIE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bliczne służby zatrudnienia tworzą organy zatrudnienia wraz z powiatowymi i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ojewódzkimi urzędami prac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urzędem obsługującym ministra właściwego do spraw pracy oraz urzędami wojewódzkimi, realizującymi zadania określone ustaw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AGENCJE ZATRUDNIE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gencje Zatrudnienia są niepublicznymi jednostkami organizacyjnymi świadczącymi usługi w zakres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średnictwa pracy na terenie Rzeczypospolitej Polskiej-26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średnictwa do pracy za granicą u pracodawców zagranicznych obywateli polskich-16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radztwa personalnego-20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radnictwa zawodowego-15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acy tymczasowej-1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w województwie warmińsko-mazurskim zarejestrowanych jest 56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 podmiotów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rowadzących agencje zatrudnienia-wg stanu na 31.03.2008 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ZADANIA WU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ojewódzki Urząd Pracy w Olsztyni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realizując zadan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wadzi rejestr agencji zatrudnie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ydaje certyfikaty wstępne i certyfikaty o dokonaniu wpisu do rejestru agencji zatrudnie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ydaje decyzje w sprawie odmowy wydania certyfikatu oraz odmowy wpisania do rejestru agencji zatrudnieni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ydaje decyzje w sprawie wykreślenia z rejestru agencji zatrudnie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zekazuje w formie elektronicznej Ministrowi Pracy i Polityki Społecznej zbiorcze informacje o działalności agencji zatrudnien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wadzi kontrole/wizytacje agencji zatrudnie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ziałania WUP 200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ahoma"/>
              </a:rPr>
              <a:t>Wysłano do agencji pismo, przypominające o konieczności złożenia rocznego sprawozdania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ahoma"/>
              </a:rPr>
              <a:t>Skierowano pismo-ponaglenie do agencji , które nie złożyły w terminie, t.j. do 31 stycznia 2008 r. sprawozdania za rok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ziałania WUP 2007 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szczęto postępowanie administracyjne w stosunku do 29 agencji, w sprawie wykreślenia z Krajowego Rejestru Agencji Zatrudnienia, z powodu: nie przestrzegania warunków prowadzenia agencji zatrudnie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ydano 37 decyzji administracyjnych w sprawie wykreślenia  agencji zatrudnienia z KRAZ, w tym: 25 decyzji,  z urzędu,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12 decyzji , na wniosek podmiot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0:04:52Z</dcterms:created>
  <dc:creator>Anna Jędrzejewska</dc:creator>
  <dc:description/>
  <dc:language>en-US</dc:language>
  <cp:lastModifiedBy>kkaszuba</cp:lastModifiedBy>
  <dcterms:modified xsi:type="dcterms:W3CDTF">2010-08-30T07:43:27Z</dcterms:modified>
  <cp:revision>81</cp:revision>
  <dc:subject/>
  <dc:title>Slajd 1</dc:title>
</cp:coreProperties>
</file>