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B43C4-1647-454C-93B5-015875BA1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72DEE-3900-48D6-A333-EB5430337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B56C4-9BC7-41B4-8EF9-34A7B68EC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66D69-88A8-4185-96F9-2C2245FE5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2299E-EBAF-4AEE-B12E-F25790205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BA467-CE36-40E8-AB59-0453A676D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13521-8E6D-45FD-84AB-A3B35E7D4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AE152-55BB-417D-A125-C395AA239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2F600-361C-4D51-9835-5DF554AC4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C1FDD-7880-4E88-A364-6C73117F9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C6BE0-FDD9-48E9-A163-2490E9714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00529-99AA-4029-8B5B-4E12E07C2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10A60-ABD8-46CF-8ED9-E799E0B83CCC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392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WOJEWÓDZKI URZĄD PRACY W OLSZTYN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2249280"/>
            <a:ext cx="9144000" cy="20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ZAWODY DEFICYTOWE I NADWYŻKOWE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 WARMII I MAZURACH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W 20007 ROK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284360" y="4678200"/>
            <a:ext cx="4784760" cy="11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r Alfred Czes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ocjolo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360" y="638172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Marzec 2008 R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0" y="290988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2. OFERTY PRAC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492280" y="5335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-36360" y="16344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TRUKTURA OFERT PRACY WG DUŻYCH GRUP ZAWODÓW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W 2007 ROK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0" y="1433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324000" y="836640"/>
          <a:ext cx="8640720" cy="59943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4000" y="836640"/>
                    <a:ext cx="8640720" cy="599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over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2492280" y="5335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660240" y="633240"/>
          <a:ext cx="8026560" cy="63248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60240" y="633240"/>
                    <a:ext cx="8026560" cy="632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OFERTY PRACY WG DUŻYCH GRUP ZAWODÓW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W LATACH 2006 - 2007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2492280" y="5335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5489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0" y="115920"/>
            <a:ext cx="9144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BEZROBOTNI A OFERTY PRACY W LATACH 2006 - 2007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0" y="1800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08000" y="836640"/>
          <a:ext cx="9036000" cy="51163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836640"/>
                    <a:ext cx="9036000" cy="511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over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492280" y="5335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WYKAZ 15 ZAWODÓW O NAJWIĘKSZEJ LICZBIE OFERT PRAC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W 2007 ROKU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655560" y="1127160"/>
          <a:ext cx="9964800" cy="57643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55560" y="1127160"/>
                    <a:ext cx="9964800" cy="576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over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290988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3. RANKING ZAWODÓ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290988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3.1. ZAWODY NADWYŻKOW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492280" y="5335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-27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RANKING 15 ZAWODÓW NADWYŻKOWYCH O NAJWYŻSZYM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POZIOMIE NADWYŻKI W 2007 ROK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689040" y="709560"/>
          <a:ext cx="8204040" cy="68961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9040" y="709560"/>
                    <a:ext cx="8204040" cy="689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over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290988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3.2. ZAWODY ZRÓWNOWAŻO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492280" y="5335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0" y="44280"/>
            <a:ext cx="9144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RANKING 15 ZAWODÓW ZRÓWNOWAŻONYCH O NAJWIĘKSZEJ             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LICZBIE RÓWNOWAGI W 2007 ROK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622440" y="1003320"/>
          <a:ext cx="8191440" cy="68835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22440" y="1003320"/>
                    <a:ext cx="8191440" cy="688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over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290988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1. OBLICZE BEZROBOC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290988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3.3. ZAWODY DEFICYTOW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2492280" y="5335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-27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RANKING 15 ZAWODÓW DEFICYTOWYCH O NAJWYŻSZYM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POZIOMIE DEFICYTU W 2007 ROK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69800" y="838080"/>
          <a:ext cx="8178840" cy="68580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9800" y="838080"/>
                    <a:ext cx="817884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over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492280" y="5335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03280" y="1989000"/>
            <a:ext cx="6120000" cy="2501280"/>
          </a:xfrm>
          <a:prstGeom prst="rect">
            <a:avLst/>
          </a:prstGeom>
          <a:solidFill>
            <a:srgbClr val="bbe0e3"/>
          </a:solidFill>
          <a:ln w="19080">
            <a:solidFill>
              <a:srgbClr val="99cc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ziękuję za uwag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4616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BEZROBOCIE W WOJEWÓDZTWIE WARMIŃSKO – MAZURSKI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W LATACH 2006 - 2007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1685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14480" y="1803240"/>
          <a:ext cx="8966160" cy="27180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4480" y="1803240"/>
                    <a:ext cx="8966160" cy="271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over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4616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WYKSZTAŁCENIE BEZROBOTNYCH </a:t>
            </a:r>
            <a:br>
              <a:rPr sz="2200"/>
            </a:b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W LATACH 2006 - 2007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101520" y="1104840"/>
          <a:ext cx="9283680" cy="56642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1520" y="1104840"/>
                    <a:ext cx="9283680" cy="566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101520" y="1193760"/>
          <a:ext cx="9055080" cy="45212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1520" y="1193760"/>
                    <a:ext cx="9055080" cy="452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0" y="14616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WIEK BEZROBOTNYCH </a:t>
            </a:r>
            <a:br>
              <a:rPr sz="2200"/>
            </a:b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 W LATACH 2006-2007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101520" y="1130400"/>
          <a:ext cx="9068040" cy="47116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1520" y="1130400"/>
                    <a:ext cx="9068040" cy="471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0" y="14616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ZAS POZOSTAWANIA BEZ PRACY BEZROBOTNYCH </a:t>
            </a:r>
            <a:br>
              <a:rPr sz="2200"/>
            </a:b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W LATACH 2006 - 2007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14616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TRUKTURA BEZROBOTNYCH WG  DUŻYCH GRUP ZAWODÓW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W 2007 ROKU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1285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468360" y="907920"/>
          <a:ext cx="8569440" cy="60343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8360" y="907920"/>
                    <a:ext cx="8569440" cy="603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over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14616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LICZBA BEZROBOTNYCH WG DUŻYCH GRUP ZAWODÓW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W LATACH 2006 - 2007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492280" y="5335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1081080" y="907920"/>
          <a:ext cx="7162920" cy="65026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1080" y="907920"/>
                    <a:ext cx="7162920" cy="650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over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11592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LISTA 15 ZAWODÓW O NAJWIĘKSZEJ LICZBIE BEZROBOTNYC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W 2007 ROK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492280" y="5335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523800" y="927000"/>
          <a:ext cx="9232920" cy="58802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23800" y="927000"/>
                    <a:ext cx="9232920" cy="588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3T11:49:47Z</dcterms:created>
  <dc:creator>Paweł Janukowicz</dc:creator>
  <dc:description/>
  <dc:language>en-US</dc:language>
  <cp:lastModifiedBy>kkaszuba</cp:lastModifiedBy>
  <dcterms:modified xsi:type="dcterms:W3CDTF">2010-08-30T07:43:55Z</dcterms:modified>
  <cp:revision>158</cp:revision>
  <dc:subject/>
  <dc:title>ZAWODY DEFICYTOWE I NADWYŻKOWE  NA WARMII I MAZURACH  W  2006 ROKU</dc:title>
</cp:coreProperties>
</file>