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6CC0-E27B-4A71-BC85-46C5BD341E9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ktura pozyskanych ofert pracy według poszukiwanych kwalifikacji zawodowych wskazuje, że największe zapotrzebowanie pracodawców dotyczy pracowników  posiadających kwalifikacje należące do grupy wielkiej: pracownicy przy pracach prostych (31,9% ogółu ofert pracy, spadek o 1,9 pkt. proc.), pracownicy usług osobistych (15,6% ogółu ofert pracy, wzrost  o 1,3 pkt. proc.), technicy i średni personel (14,3% ogółu ofert pracy, wzrost  o 3,2 pkt. pro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erty pracy zgłoszone dla tych trzech wielkich grup zawodów stanowiły ponad trzy piąte (61,8%) wszystkich propozycji zatrudnieniowych w 2009 ro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2009 roku w rankingu zawodów deficytowych i nadwyżkowych na Warmi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azurach odnotowano 1 135 zawodów, w których zgłoszono oferty pracy i zarejestrowali się bezrobotni. W grupie tej było 705 zawodów nadwyżkowych, 355 zawodów deficytowych oraz 75 zawodów zrównoważony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azało się, że nadwyżka podaży siły roboczej dotyka zawody o różnym poziomie wykształcenia. W zaprezentowanym rankingu zawodów nadwyżkowych znalazły się zarówno zawod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magające przygotowania zasadniczego zawodowego jak: rolnik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produkcji roślinnej i zwierzęcej, krawiec, mechanik pojazdów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samochodowych, murarz, ślusarz, piekarz, stolarz meblowy, tokarz,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mechanik pojazdów rolniczych, elektromonter, mechanik maszyn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przemysłowych, stolarz budowlan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magające wykształcenia średniego zawodowego np. asyste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ekonomiczny, technik rolnik,  technik mechanik, technik budownictwa, 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technik żywienia i gospodarstwa domowego, technik technologii odzieży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organizator usług hotelarski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ymagające wykształcenia wyższego takie jak: ekonomista i pedag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z zawód zrównoważony należy rozumieć zawód, w którym występuje równowaga pomiędzy liczbą osób poszukujących pracy w danym zawodzie, a liczbą pojawiających się ofert pracy dotyczących tego zawo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rzez zawód deficytowy należy rozumieć zawód, na który występuje na rynku pracy wyższe zapotrzebowanie niż liczba osób poszukujących pracy w tym zawodz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marcu 2010 roku, liczba bezrobotnych w porównaniu 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 grudnia 2009 roku, wzrosła o 6 682 osób, tj. o 6,1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arca 2009 roku wzrosła o 13 427 osób, tj. o 13,1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lutego 2010 roku zmalała o 3 609 osób, tj. o 3,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kwietniu 2010 r., liczba bezrobotnych w porównaniu 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udnia 2009 r., spadła o 862 osoby, tj. o 0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ietnia 2009 r. wzrosła o 9 697 osób, tj. o 9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 2010 r. spadła o 7 544 osoby, tj. o 6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odniesieniu do marca 2009 roku, procentowy wzrost liczby bezrobotnych wystąpił w osiemnastu powiatach województwa, przy czym najsilniejszy był 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iecie nowomiejskim – 35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eście Elblągu – 35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eście Olsztynie 31,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dek miał miejsce 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iecie iławskim – o 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iecie gołdapskim – o 2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iecie oleckim – o 2,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a bezrobocia w województwie warmińsko – mazurskim w końcu marca 2010 roku kształtowała się na poziomie 21,6%, w kraju zaś - 12,9%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porównaniu do sytuacji sprzed roku wysokość tego wskaźnika w regionie wzrosła o 2,0 punktu procentowego (dla kraju o 1,8 punktu procentowego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odniesieniu do lutego 2010 roku wartość stopy bezrobocia w województwie warmińsko – mazurskim spadła o 0,5 punktu procentowego, natomiast w kraju o 0,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pa bezrobocia w województwie warmińsko – mazurskim jest mocno zróżnicowana lokalnie. Najniższą stopą bezrobocia w marcu 2010 roku charakteryzowały si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asto Olsztyn – 7,5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wiat iławski – 12,3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asto Elbląg – 17,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omiast najwyższa stopa bezrobocia występowała w powiata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toszyckim – 33,1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skim – 32,6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aniewskim – 31,6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ęgorzewskim – 29,2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ybrane kategorie bezrobotny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obie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w liczbie 57 469 osób, w końcu marca 2010 roku, stanowiły 49,6% ogółu bezrobotnych. W porównaniu do marca 2009 roku, ich liczba wzrosła o 4 232 osoby, tj. o 7,9%. Zmniejszył się natomiast, o 2,4 punktu procentowego, udział kobiet w ogólnej liczbie bezrobotnych. Największy udział procentowy kobiet wystąpił w powiatach: działdowskim (56,0%) i braniewskim (53,5%), a najmniejszy – w powiatach: kętrzyńskim (46,3%) i mrągowskim (47,2%) oraz w mieście Olsztynie (47,2%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awo do pobierania zasiłku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 marcu 2010 roku przysługiwało 27 340 osobom, które stanowiły 23,6% populacji bezrobotnych. W porównaniu do marca 2009 roku liczba osób w tej grupie wzrosła o 2 156 osób (o 8,6%). Spadł natomiast, o 1 punkt procentowy, udział tej kategorii bezrobotnych w ogólnej liczbie zarejestrowanych. Osoby z prawem do pobierania stanowiły największy udział procentowy w ogólnym bezrobociu w powiatach: nowomiejskim (32,4%) i olsztyńskim (29,2%), a najmniejszy – w miastach: Elblągu (16,9%) i Olsztynie (18,4%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eszkańcy ws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 marcu 2010 roku stanowili 48,9% ogółu bezrobotnych. W porównaniu do analogicznego okresu 2009 roku, liczba osób w tej kategorii zwiększyła się o 6 031 osób (o 11,9%) do poziomu 56 698 osób. Zmalał natomiast, o 0,6 punktu procentowego, udział tej kategorii bezrobotnych w ogólnej liczbie zarejestrowanych. Największy udział procentowy w ogólnym bezrobociu, mieszkańcy wsi stanowili w powiecie nowomiejskim (75,9%) oraz w powiecie elbląskim (74,4%), natomiast najmniejszy – w powiatach: ełckim (38,7%) i iławskim (45,0%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 końcu marca 2010 roku, w ewidencji urzędów pracy zarejestrowanych było także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 516 osób, znajdujących się w  okresie do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 miesięcy od dnia ukończenia nauk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 w porównaniu do marca 2009 roku, nastąpił wzrost liczby tej grupy bezrobotnych o 1 153 osoby (o 26,4%). Osoby te, w marcu 2010 roku, stanowiły 4,8% ogółu bezrobotnych, zaś przed rokiem 4,3%. Obserwujemy zatem wzrost, o 0,5 punktu procentowego  udziału tej grupy w ogólnej liczbie bezrobotnych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 621 osób (2,3% ogółu bezrobotnych)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wolnionych z przyczyn dotyczących zakładu prac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 przed rokiem takich osób było 2 064, co stanowiło 2,0% ogółu bezrobotnych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zrobotni będący w szczególnej sytuacji na rynku p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 rejestrach powiatowych urzędów pracy, w marcu 2010 roku, pozostawało 24 831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sób bezrobotnych do 25 roku życi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które stanowiły 21,4% ogółu bezrobotnych. W porównaniu z marcem 2009 roku, widoczny jest wzrost liczby bezrobotnych tej grupy o 3 464 osoby, tj. o 16,2%. Zwiększył się również ich procentowy udział w ogólnej liczbie zarejestrowanych bezrobotnych (o 0,5 punktu procentowego). Największy odnotowano w powiatach: nowomiejskim (27,3%) i iławskim (25,3%), natomiast najmniejszy – w miastach: Olsztynie (18,2%) i Elblągu (18,8%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ługotrwale bezrobot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 marcu 2010 roku, w liczbie 51 069 osób, stanowili 44,1% ogółu bezrobotnych. W porównaniu do marca 2009 roku, odnotowano wzrost liczby długotrwale bezrobotnych o 4 728 osób, czyli o 10,2%. W analizowanym okresie, widoczny jest natomiast spadek procentowego udziału liczby tej grupy bezrobotnych w ogólnej liczbie zarejestrowanych (o 1,1 punktu procentowego). Największy udział procentowy osób długotrwale bezrobotnych odnotowano w marcu 2010 roku, w powiatach: bartoszyckim (60,4%) i braniewskim (58,9%), a najmniejszy – w mieście Olsztynie (24,1%) oraz powiecie iławskim (26,8%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 okresie marzec 2009 – marzec 2010, liczba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zrobotnych powyżej 50 roku życia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zrosła o 3 085 osób, tj. o 15,3%, do poziomu 23 210 osób, natomiast procentowy udział tej kategorii bezrobotnych w ogólnej populacji zarejestrowanych wzrósł o 0,4 punktu procentowego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zrobotni bez kwalifikacji zawodowy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33 681 osób), w marcu 2010 roku, stanowili 29,1% ogółu zarejestrowanych w województwie. W porównaniu z marcem 2010 roku, liczba bezrobotnych w tej grupie zwiększyła się o 1 662 osoby (tj. o 5,2%), natomiast udział procentowy w ogólnym bezrobociu był mniejszy o 2,2 punktu procentowego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zrobotni niepełnospraw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 marcu 2010 roku, w liczbie 5 502 osób, stanowili 4,7% ogółu bezrobotnych. Przed rokiem, zarejestrowane były o 783 osoby mniej, tak więc w bieżącym roku liczba bezrobotnych osób niepełnosprawnych wzrosła o 16,6%. Udział procentowy osób niepełnosprawnych w ogólnej liczbie zarejestrowanych zwiększył się o 0,1 punktu procentowe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 początku 2010 roku, do urzędów pracy wpłynęły 13 783 oferty wolnych miejsc pracy i miejsca aktywizacji zawodowej, o 3 186 tj. o 30,1% więcej niż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tym czasie przed roki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nad 77% (10 625) ofert, zgłoszonych do końca marca 2010 roku dotyczyło zatrudnienia subsydiowanego i wolnych miejsc aktywizacji zawodowej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w 2009 roku – 72,8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 liście powiatów o największym udziale ofert pracy niesubsydiowanej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ogólnej liczbie pozyskanych ofert, od stycznia do marca 2010 roku, znajdują się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ławski – 54,0% ogółu pozyskanych ofert prac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asto Olsztyn – 41,1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wiat mrągowski – 37,5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wiat działdowski – 36,9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 początku 2010 roku największym udziałem wspieranych środkami Funduszu Pracy (subsydiowanych) ofert pracy charakteryzowały się powia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bląski – 97,5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toszycki – 95,4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aniewski – 92,4%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ętrzyński – 88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2009 roku pracodawcy zgłosili do urzędów pracy województwa warmińsko-mazurskiego 46 277 nowych ofert pracy. Jest to o 6 124 oferty, czyli o ponad jedną dziesiątą (11,7%) mniej wobec 2008 roku. Przyczyną takiego stanu rzeczy może być sytuacja finansowa powstała na światowym, krajowym i regionalnym rynku pracy, co sprawia, że liczba wolnych miejsc pracy maleje. Zmniejsza się też zapotrzebowanie na poszczególne zawody, choć są wyjątki, gdzie popyt utrzymuje się na podobnym poziomie lub wzras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wie 71% (32 827) ofert pracy w okresie od stycznia do grudnia 2009 roku dotyczyło zatrudnienia subsydiowanego (w 2008 roku – 59,3%), a ponad 29% (13 450) stanowiły oferty pracy niesubsydiowanej ( w 2008 roku – 40,7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421-8AE4-47C8-87D5-8F4B6E7B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174-9F6C-417A-BCC9-6F7FB5E2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CDA-B36F-4467-913B-3C6180E1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EAB-EC75-4BB6-B252-191128AF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A583-3466-45A0-B62B-F38A5640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4840-294A-44CA-8A19-9A186E95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AB96-589B-497F-81FE-938E9240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0BF1-5B28-469F-980C-2E002DF6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D536-E881-465B-B6EA-E8E6FD5F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F548-A974-4753-8C3A-6A6DE9D3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A0A2-5B5D-4C43-8289-757F6145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2F5-9165-4DA3-9359-E0B64CB6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758B-9033-418A-A914-E9F1197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A28B-B9AF-4206-94FF-2322158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F7E2-22EE-46AB-B5D5-4837BEE4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284C-E54C-41E2-BA3C-9252AEF7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9D02-D894-4585-A13D-DB91E709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454-DB95-48E2-B7A6-0D25B3AA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453-17A4-496B-9C02-F6C6D5A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AAC-B2EF-4515-B298-5AF9B9D7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08A-D91F-4FCA-AF7C-711026D4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F90-60D1-482A-ABBA-8AAA315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4E8-EF6D-4D66-AAE2-187F7226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D41-652A-40E5-A69D-C9F64C40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E5A-9C4F-47B3-B30D-CCEF21026DB2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F6D4-DD45-488B-9C3A-8215F02DFC1D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nformacja o aktualnej sytuacji 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a rynku pracy z uwzględnieniem informacji o zawodach deficytowych i nadwyżkowy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Maj 2010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457200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6633"/>
                </a:solidFill>
                <a:latin typeface="Garamond"/>
              </a:rPr>
              <a:t>Wiesław R. Drożdżyński</a:t>
            </a:r>
            <a:br>
              <a:rPr sz="2200"/>
            </a:br>
            <a:r>
              <a:rPr b="1" lang="pl-PL" sz="2200" spc="-1" strike="noStrike">
                <a:solidFill>
                  <a:srgbClr val="006633"/>
                </a:solidFill>
                <a:latin typeface="Garamond"/>
              </a:rPr>
              <a:t>Wicedyrektor ds. Usług Rynku Pracy</a:t>
            </a:r>
            <a:br>
              <a:rPr sz="2200"/>
            </a:br>
            <a:r>
              <a:rPr b="1" lang="pl-PL" sz="2200" spc="-1" strike="noStrike">
                <a:solidFill>
                  <a:srgbClr val="006633"/>
                </a:solidFill>
                <a:latin typeface="Garamond"/>
              </a:rPr>
              <a:t>Wojewódzki Urząd Pracy w Olszty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3049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Oferty pracy według sekcji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gospodarki narodowej w 200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662840"/>
            <a:ext cx="815364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Najwięcej ofert pracy zgłosiły podmioty zgrupowane, podobnie jak w poprzednich latach, w następujących Sekcjach Gospodarki Narodow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33"/>
              </a:buClr>
              <a:buSzPct val="10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administracja publiczna i obrona narodowa, ubezpieczenia </a:t>
            </a:r>
            <a:br>
              <a:rPr sz="1800"/>
            </a:b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społeczne – 12 808 ofert (27,7% wszystkich zgłoszonych w 2009 roku, </a:t>
            </a:r>
            <a:br>
              <a:rPr sz="1800"/>
            </a:b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ofert pracy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33"/>
              </a:buClr>
              <a:buSzPct val="10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handel hurt. i detaliczny, naprawa pojazd. samochodowych </a:t>
            </a:r>
            <a:br>
              <a:rPr sz="1800"/>
            </a:b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i motocyklowych oraz artykułów użytku osobistego </a:t>
            </a:r>
            <a:br>
              <a:rPr sz="1800"/>
            </a:b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i domowego – 6 741 ofert (14,6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33"/>
              </a:buClr>
              <a:buSzPct val="10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zetwórstwo przemysłowe – 5 423 oferty (11,7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33"/>
              </a:buClr>
              <a:buSzPct val="10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udownictwo – 3 327 oferty pracy (7,2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33"/>
              </a:buClr>
              <a:buSzPct val="10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chrona zdrowia i pomoc społeczna – 3 114 ofert pracy (6,7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33"/>
              </a:buClr>
              <a:buSzPct val="10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edukacja - 2 590 ofert (5,6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396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Struktura ofert pracy według wielkich 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grup zawodów w latach: 2008 -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990720"/>
          <a:ext cx="7400880" cy="459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4008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52280" y="5499360"/>
            <a:ext cx="8839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-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rzedstawiciele władz publicznych, wyżsi urzędnicy i kierownicy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Specjaliści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Technicy i inny średni personel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Pracownicy biurowi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Pracownicy usług osobistych i sprzedawcy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Rolnicy, leśnicy ogrodnicy i rybacy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Robotnicy przemysłowi i rzemieślnicy,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Operatorzy maszyn i urządzeń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Pracownicy przy pracach prostych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Siły zbrojne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Bez zawod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3967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Najczęściej zgłaszane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oferty pracy w 2009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4640" y="1507320"/>
            <a:ext cx="874872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obotników gospodarczych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9 618 ofert  (20,8% ogółu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przedawców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4 096 ofert  (8,9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acowników biurowych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4 024 oferty  (8,7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acowników administracyjnych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2 296 ofert   ( 5,0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obotników budowlanych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1 362 oferty  (3,0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przątaczek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813 ofert   (1,8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kucharzy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686 ofert   (1,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obotników drogowych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649 ofert   (1,4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omocy kuchennej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613 ofert   (1,3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tolarzy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611 ofert   (1,3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33"/>
              </a:buClr>
              <a:buSzPct val="11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acowników ochrony mienia i osób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518 ofert   (1,1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3967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Struktura zawodów deficytowych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i nadwyżkowych w 2009 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1390680"/>
          <a:ext cx="8163000" cy="4552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390680"/>
                    <a:ext cx="8163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396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Zawody nadwyż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52280"/>
            <a:ext cx="965160" cy="107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1295280"/>
          <a:ext cx="8458200" cy="5695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295280"/>
                    <a:ext cx="845820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396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Zawody zrównoważ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152280"/>
            <a:ext cx="965160" cy="1079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04920" y="1276200"/>
          <a:ext cx="8534160" cy="5613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276200"/>
                    <a:ext cx="853416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396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Zawody deficyt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152280"/>
            <a:ext cx="965160" cy="1079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239840"/>
          <a:ext cx="8174160" cy="569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39840"/>
                    <a:ext cx="817416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152280"/>
            <a:ext cx="96516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438200"/>
            <a:ext cx="861048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W warunkach trudnej sytuacji gospodarczej należy sprostać pogłębianiu się dysproporcji pomiędzy popytem a podażą rynku pracy. Stąd istnieje potrzeb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6633"/>
              </a:buClr>
              <a:buSzPct val="11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ktywnego pozyskiwania ofert pracy przez służby zatrudnie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6633"/>
              </a:buClr>
              <a:buSzPct val="11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lastycznego reagowania na pojawiające się nowe oczekiwania   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   pracodawcó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6633"/>
              </a:buClr>
              <a:buSzPct val="11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kształcenia i przekwalifikowania pod przyszłe zapotrzebowanie 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   rynku prac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6633"/>
              </a:buClr>
              <a:buSzPct val="11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zwiększenia mobilności zawodowo – przestrzenn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6633"/>
              </a:buClr>
              <a:buSzPct val="11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obudzania bezrobotnych do prowadzenia własnej działalności 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   gospodarcz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723080" y="30492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19320" y="1828800"/>
            <a:ext cx="6553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33"/>
                </a:solidFill>
                <a:latin typeface="Garamond"/>
              </a:rPr>
              <a:t>Dziękuję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33"/>
                </a:solidFill>
                <a:latin typeface="Garamond"/>
              </a:rPr>
              <a:t>Wojewódzki Urząd Pracy w Olszty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33"/>
                </a:solidFill>
                <a:latin typeface="Garamond"/>
              </a:rPr>
              <a:t>ul. Głowackiego 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ff"/>
                </a:solidFill>
                <a:latin typeface="Garamond"/>
              </a:rPr>
              <a:t>olwu@up.gov.p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ff"/>
                </a:solidFill>
                <a:latin typeface="Garamond"/>
              </a:rPr>
              <a:t>www.up.gov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3880" y="3049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Liczba bezrobotnych w województwie warmińsko-mazurskim w kwietniu 2010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5920" y="1214280"/>
          <a:ext cx="8242200" cy="489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1214280"/>
                    <a:ext cx="8242200" cy="48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2666880"/>
          <a:ext cx="914400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9144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62120" y="990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Zmiany (w %) liczby bezrobotnych w województwie warmińsko-mazurskim (marzec 2009 – marzec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Stopa bezrobocia w województwie 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warmińsko-mazurskim na tle kraju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2114640"/>
          <a:ext cx="8686800" cy="2914560"/>
        </p:xfrm>
        <a:graphic>
          <a:graphicData uri="http://schemas.openxmlformats.org/drawingml/2006/table">
            <a:tbl>
              <a:tblPr/>
              <a:tblGrid>
                <a:gridCol w="1600200"/>
                <a:gridCol w="939960"/>
                <a:gridCol w="1423800"/>
                <a:gridCol w="939960"/>
                <a:gridCol w="1422360"/>
                <a:gridCol w="939600"/>
                <a:gridCol w="1420920"/>
              </a:tblGrid>
              <a:tr h="842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ią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adek stopy bezrobocia 2008 - 2007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kt pro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jewódz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jewódz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jewódz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ycze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z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46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33"/>
                </a:solidFill>
                <a:latin typeface="Garamond"/>
              </a:rPr>
              <a:t>Stopa bezrobocia w województwie warmińsko-mazurskim </a:t>
            </a:r>
            <a:br>
              <a:rPr sz="2200"/>
            </a:br>
            <a:r>
              <a:rPr b="1" lang="en-US" sz="2200" spc="-1" strike="noStrike">
                <a:solidFill>
                  <a:srgbClr val="006633"/>
                </a:solidFill>
                <a:latin typeface="Garamond"/>
              </a:rPr>
              <a:t>w marcu 2010 r. – 21,1%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43000" y="2057400"/>
            <a:ext cx="6786720" cy="403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3880" y="8380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Wybrane kategorie bezrobot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3680" y="1378080"/>
          <a:ext cx="8035920" cy="41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680" y="1378080"/>
                    <a:ext cx="8035920" cy="41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14400" y="12952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Bezrobotni w szczególnej sytuacji na rynku 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1752480"/>
          <a:ext cx="8382240" cy="438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52480"/>
                    <a:ext cx="8382240" cy="43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8701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Oferty wolnych miejsc pracy i miejsc aktywizacji zawodowej w województwie warmińsko-mazurskim pozyskane w okresie styczeń-marzec w latach 2009-2010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996920"/>
          <a:ext cx="8534520" cy="420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996920"/>
                    <a:ext cx="853452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898360" y="2590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8240" y="2590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5335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Oferty pracy pozyskane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w latach 2008 -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1079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0920" cy="79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0440" y="1889280"/>
          <a:ext cx="8496360" cy="377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440" y="1889280"/>
                    <a:ext cx="849636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kaszuba</cp:lastModifiedBy>
  <dcterms:modified xsi:type="dcterms:W3CDTF">2010-08-30T07:33:45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