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CCA-36A6-4266-A724-28CE6EDD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4C9-7CF5-4E5B-A5DA-648FC1DE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7D5-0A7C-4A42-88F8-FE4F160F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B6F-2BCF-4720-BB5D-C40EE063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689-920C-4BE2-9B95-50F223D6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51C-E28A-48B4-B5D5-98993E86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866-DD62-4DE2-9E32-BFD04C24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26F-591C-446F-B354-0593B4F1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879-08E6-46D0-8E78-75709AFB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D72-CEBF-48D0-B25C-9FE49FF9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FCF-B818-4759-BE85-11A45F6C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616-4B5A-40B1-8FE1-84449963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AC0A-5560-4A1F-B8FE-633F5961F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k.skalska@up.gov.p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1152720" cy="72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549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ojewódzki Urząd Pracy w Olszty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7208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dsumowanie działalności Agencji Zatrudnienia z terenu Województwa Warmińsko – Mazurskiego w okresi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d 31.01.2009 r. do 31.01.2010 r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816440"/>
            <a:ext cx="53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mila Skal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średnik p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jewódzki Urząd Pr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 Olszt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sztyn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ane statystyczne za 2009 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Informacja z działalności agencji zatrudnienia – doradztwo personal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55640" y="2133720"/>
          <a:ext cx="7848720" cy="4324320"/>
        </p:xfrm>
        <a:graphic>
          <a:graphicData uri="http://schemas.openxmlformats.org/drawingml/2006/table">
            <a:tbl>
              <a:tblPr/>
              <a:tblGrid>
                <a:gridCol w="2895480"/>
                <a:gridCol w="1222560"/>
                <a:gridCol w="1479600"/>
                <a:gridCol w="225108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8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9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9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w skali kraj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pracodawców korzystających z usług w zakresie prowadzenia analizy zatrudnienia u pracodawców, określenia kwalifikacji pracowników i ich predyspozycji oraz innych cech niezbędnych do wykonywania określonej p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- 29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pracodawców korzystających z usług w zakresie wskazywania źródeł i metod pozyskiwania kandydatów na określone stanowisko p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- 3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3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pracodawców korzystających z usług w zakresie weryfikacji kandydatów pod względem oczekiwanych kwalifikacji i predyspozy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-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ane statystyczne za 2009 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0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Informacja z działalności agencji zatrudnienia – poradnictwo zawodow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844640"/>
          <a:ext cx="8280360" cy="4546800"/>
        </p:xfrm>
        <a:graphic>
          <a:graphicData uri="http://schemas.openxmlformats.org/drawingml/2006/table">
            <a:tbl>
              <a:tblPr/>
              <a:tblGrid>
                <a:gridCol w="4032360"/>
                <a:gridCol w="1073160"/>
                <a:gridCol w="1587240"/>
                <a:gridCol w="15876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8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9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9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w skali kraj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osób korzystających z pomocy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wyborze odpowiedniego zawodu i miejsca zatrudni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+3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osób korzystających z informacji niezbędnych do podejmowania decyzji zawodowych w szczególności o zawodach, rynku pracy oraz możliwościach szkolenia i kształc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+28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osób korzystających z grupowych porad zawodowych, zajęć aktywizujących w zakresie pomocy w aktywnym poszukiwaniu pra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+ 4 0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pracodawców korzystających z pomocy w doborze kandydatów do pracy, w szczególności z udzielanej informacji i doradztwa w tym zakres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- 7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6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ane statystyczne za 2009 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070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Informacja z działalności agencji zatrudnienia – praca tymczasow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916280"/>
          <a:ext cx="8713800" cy="2881080"/>
        </p:xfrm>
        <a:graphic>
          <a:graphicData uri="http://schemas.openxmlformats.org/drawingml/2006/table">
            <a:tbl>
              <a:tblPr/>
              <a:tblGrid>
                <a:gridCol w="4044960"/>
                <a:gridCol w="1427400"/>
                <a:gridCol w="1657080"/>
                <a:gridCol w="15843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8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9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9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w skali kraj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osób skierowanych przez agencję zatrudnienia do wykonywania pracy tymczasow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- 7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 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pracodawców użytkowników korzystających z usług agencji zatrudnien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+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estawienie zbiorcze z działalności agencji zatrudnienia w 2009 r. według grup zawodów w wyniku pracy tymczasowej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5 najczęściej występujących grup zawodów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916280"/>
          <a:ext cx="8207280" cy="4224240"/>
        </p:xfrm>
        <a:graphic>
          <a:graphicData uri="http://schemas.openxmlformats.org/drawingml/2006/table">
            <a:tbl>
              <a:tblPr/>
              <a:tblGrid>
                <a:gridCol w="549360"/>
                <a:gridCol w="961920"/>
                <a:gridCol w="2678040"/>
                <a:gridCol w="1498680"/>
                <a:gridCol w="1292040"/>
                <a:gridCol w="1227240"/>
              </a:tblGrid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Sym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Nazwa grupy elementarnej zawo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Ogół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Kob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Mężczyź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jerzy i sprzedawcy bilet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ownicy domowej opieki osobist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zedawcy i demonstrator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arze, robotnicy w przetwórstwie ryb i pokrew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otnicy przy pracach prostych w przemyś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estawienie zbiorcze z działalności agencji zatrudnienia w 2009 r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– kraje, do których agencje kierowały obywateli polskich do pracy tymczas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2276640"/>
          <a:ext cx="8229600" cy="3768480"/>
        </p:xfrm>
        <a:graphic>
          <a:graphicData uri="http://schemas.openxmlformats.org/drawingml/2006/table">
            <a:tbl>
              <a:tblPr/>
              <a:tblGrid>
                <a:gridCol w="749160"/>
                <a:gridCol w="3000600"/>
                <a:gridCol w="1558800"/>
                <a:gridCol w="1554120"/>
                <a:gridCol w="1366920"/>
              </a:tblGrid>
              <a:tr h="80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Nazwa kraj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Ogół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Kob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Mężczyź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s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m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ółem we wszystkich państwach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80071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la wszystkich  agencji zatrudnienia istnieje możliwość wprowadzania rocznych danych z działalności za pomocą aplikacji „KRAZ”. Aby umożliwić agencjom wprowadzanie powyższych danych, każdemu z podmiotów został automatycznie nada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  <a:ea typeface="Tahoma"/>
              </a:rPr>
              <a:t>log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  <a:ea typeface="Tahoma"/>
              </a:rPr>
              <a:t>(nazwa użytkownik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  <a:ea typeface="Tahoma"/>
              </a:rPr>
              <a:t>hasło dostępu do aplik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3800" y="404640"/>
            <a:ext cx="24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UWAG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628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zwa użytkownika dla agencji zatrudnienia została wpisana w bazie według takiej samej zasady dla wszystkich podmiotów:</a:t>
            </a:r>
            <a:r>
              <a:rPr b="0" lang="en-US" sz="2400" spc="-1" strike="noStrike" u="sng">
                <a:solidFill>
                  <a:srgbClr val="63e8eb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dwie litery „az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podkreślnik dolny „_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numer wpisu do rejes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3300"/>
                </a:solidFill>
                <a:latin typeface="Tahoma"/>
                <a:ea typeface="Tahoma"/>
              </a:rPr>
              <a:t>     </a:t>
            </a:r>
            <a:r>
              <a:rPr b="1" lang="pl-PL" sz="2000" spc="-1" strike="noStrike">
                <a:solidFill>
                  <a:srgbClr val="ff3300"/>
                </a:solidFill>
                <a:latin typeface="Tahoma"/>
                <a:ea typeface="Tahoma"/>
              </a:rPr>
              <a:t>np.  az_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Pierwsze hasło startowe dla istniejących podmiotów jest jednakowe „12345” i można je zmienić po pierwszym logowaniu do syste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81080" y="-5380200"/>
            <a:ext cx="181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50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1844640"/>
            <a:ext cx="743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OBSŁUGA INTERNETOWEGO WPROWADZANIA DANYCH Z DZIAŁALNOŚCI AGENCJI ZATRUDNI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Wykaz aktów prawnych obowiązuj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ących agencje zatrudni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510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Tahoma"/>
                <a:ea typeface="Tahoma"/>
              </a:rPr>
              <a:t>Ustawa z dnia 20 kwietnia 2004 r. o promocji zatrudnienia i instytucjach rynku pracy (Dz. U. z 2008 r. Nr 69, poz. 415 ze zmianami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Tahoma"/>
                <a:ea typeface="Tahoma"/>
              </a:rPr>
              <a:t>Rozporządzenie Ministra Pracy i Polityki Społecznej z dnia 26.01.2009 r. w sprawie Agencji Zatrudnienia ( Dz. U. Nr 17 poz. 91.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Tahoma"/>
                <a:ea typeface="Tahoma"/>
              </a:rPr>
              <a:t>Ustawa z dnia 2 lipca 2004 r. o swobodzie działalności gospodarczej </a:t>
            </a:r>
            <a:br>
              <a:rPr sz="1600"/>
            </a:br>
            <a:r>
              <a:rPr b="1" lang="pl-PL" sz="1600" spc="-1" strike="noStrike">
                <a:solidFill>
                  <a:srgbClr val="ff3300"/>
                </a:solidFill>
                <a:latin typeface="Tahoma"/>
                <a:ea typeface="Tahoma"/>
              </a:rPr>
              <a:t>(Dz. U. z 2007 r. Nr 155, poz. 109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Tahoma"/>
                <a:ea typeface="Tahoma"/>
              </a:rPr>
              <a:t>Ustawa z dnia 14 czerwca 1960 r. – Kodeks postępowania administracyjnego (Dz. U. z 2000 r. Nr 98, poz. 1071, z późn . zm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Tahoma"/>
                <a:ea typeface="Tahoma"/>
              </a:rPr>
              <a:t>5.       Ustawa z dnia 9 lipca 2003 r. o zatrudnianiu pracowników tymczasowych </a:t>
            </a:r>
            <a:br>
              <a:rPr sz="1600"/>
            </a:br>
            <a:r>
              <a:rPr b="1" lang="pl-PL" sz="1600" spc="-1" strike="noStrike">
                <a:solidFill>
                  <a:srgbClr val="ff3300"/>
                </a:solidFill>
                <a:latin typeface="Tahoma"/>
                <a:ea typeface="Tahoma"/>
              </a:rPr>
              <a:t>( Dz. U. z 2003 r. Nr 166, poz. 1608 z późn . z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523880" y="-158760"/>
            <a:ext cx="1219176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2678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69920" y="-15840"/>
            <a:ext cx="93139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69920" y="-15840"/>
            <a:ext cx="93139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89978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92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3300"/>
                </a:solidFill>
                <a:latin typeface="Times New Roman"/>
              </a:rPr>
              <a:t>Działania WUP, związane z prowadzeniem rejestru agencji zatrudnienia 2009/2010 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341360"/>
          <a:ext cx="8229600" cy="5237280"/>
        </p:xfrm>
        <a:graphic>
          <a:graphicData uri="http://schemas.openxmlformats.org/drawingml/2006/table">
            <a:tbl>
              <a:tblPr/>
              <a:tblGrid>
                <a:gridCol w="585720"/>
                <a:gridCol w="4968720"/>
                <a:gridCol w="2675160"/>
              </a:tblGrid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starych certyfikatów wymienionych na nowe, zgodne z zał. 2 do Rozporządzenia Ministra Pracy i Polityki Społecznej  z dnia 26 stycznia 2009 r. w sprawie agencji zatrudnienia ( Dz. U. z 2009 r. Nr 17, poz. 91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rozpatrzonych w 2009/20010 r. wniosków 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wpis do KRAZ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certyfikatów wydanych w 2009/2010 r. (stan na dzień 05.05.2010 r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Łączna liczba postępowań administracyjnych w sprawie wykreślenia z KRAZ, wszczętych w 2009/2010 r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postępowań administracyjnych w sprawie wykreślenia, wszczętych z powodu niewykazania działalności za 2009 r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działalność za 2008 r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działalność za 2009 r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decyzji administracyjnych w sprawie wykreślenia z KRAZ, wydanych na wniosek podmiotów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decyzji administracyjnych w sprawie wykreślenia z KRAZ, wydanych z urzędu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kontroli Agencji Zatrudnienia, przeprowadzonych w 2009 r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tym liczba stwierdzonych przypadków nieprzestrzegania warunków prowadzenia agencji zatrudnien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3516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00"/>
                </a:solidFill>
                <a:uFillTx/>
                <a:latin typeface="Arial"/>
              </a:rPr>
              <a:t>DZIĘKUJĘ 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00"/>
                </a:solidFill>
                <a:uFillTx/>
                <a:latin typeface="Arial"/>
              </a:rPr>
              <a:t>UWAGĘ</a:t>
            </a:r>
            <a:r>
              <a:rPr b="1" lang="en-US" sz="6000" spc="-1" strike="noStrike" u="sng">
                <a:solidFill>
                  <a:srgbClr val="ff3300"/>
                </a:solidFill>
                <a:uFillTx/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95480" y="3808440"/>
            <a:ext cx="47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311bd7"/>
                </a:solidFill>
                <a:latin typeface="Arial"/>
              </a:rPr>
              <a:t>Kamila Skal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311bd7"/>
                </a:solidFill>
                <a:latin typeface="Arial"/>
              </a:rPr>
              <a:t>Pośrednik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311bd7"/>
                </a:solidFill>
                <a:latin typeface="Arial"/>
              </a:rPr>
              <a:t>tel. 89/522 79 9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311bd7"/>
                </a:solidFill>
                <a:latin typeface="Arial"/>
              </a:rPr>
              <a:t>e-mail: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k.skalska@up.gov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iczba czynnych agencji zatrudnienia w kraju, według stanu na dzień 21.04.2010 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201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ane statystyczne za 2009 r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578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cja o działalności w zakresie    pośrednictwa pracy na terenie R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50760" y="3009960"/>
            <a:ext cx="678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26920" y="2349360"/>
          <a:ext cx="7561440" cy="3240360"/>
        </p:xfrm>
        <a:graphic>
          <a:graphicData uri="http://schemas.openxmlformats.org/drawingml/2006/table">
            <a:tbl>
              <a:tblPr/>
              <a:tblGrid>
                <a:gridCol w="3063960"/>
                <a:gridCol w="892080"/>
                <a:gridCol w="824040"/>
                <a:gridCol w="1598760"/>
                <a:gridCol w="1182600"/>
              </a:tblGrid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8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9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óż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9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cały kra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osób, które podjęły zatrudnienie lub inną pracę zarobkową za pośrednictwem agencji zatrudni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+15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27 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tym liczba kobi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- 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7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estawienie zbiorcze z działalności agencji zatrudnienia w 2009 r. według grup zawodów w wyniku pośrednictwa pracy na terenie RP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10 najczęściej występujących grup zawodó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1916280"/>
          <a:ext cx="8496000" cy="4547880"/>
        </p:xfrm>
        <a:graphic>
          <a:graphicData uri="http://schemas.openxmlformats.org/drawingml/2006/table">
            <a:tbl>
              <a:tblPr/>
              <a:tblGrid>
                <a:gridCol w="568080"/>
                <a:gridCol w="852480"/>
                <a:gridCol w="2916360"/>
                <a:gridCol w="1446120"/>
                <a:gridCol w="1443240"/>
                <a:gridCol w="1269720"/>
              </a:tblGrid>
              <a:tr h="5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Sym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Nazwa grupy elementarnej zawo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Ogół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Kob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Mężczyź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podarze budynk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zedawcy i demonstrator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char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ownicy opieki osobistej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okrewni gdzie indziej niesklasyfikow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oce i sprzątaczki biurowe, hotelowe i podob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ci do spraw sprzedaży (handlowc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joniści i rejestrator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nerzy i pokrew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wacze i pokrew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sięgow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ane statystyczne za 2009 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   Informacja o działalności pośrednictwa pracy w zakresie kierowania osób do pracy za granic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2492280"/>
          <a:ext cx="8424720" cy="3268800"/>
        </p:xfrm>
        <a:graphic>
          <a:graphicData uri="http://schemas.openxmlformats.org/drawingml/2006/table">
            <a:tbl>
              <a:tblPr/>
              <a:tblGrid>
                <a:gridCol w="2463480"/>
                <a:gridCol w="1684440"/>
                <a:gridCol w="1425600"/>
                <a:gridCol w="1425600"/>
                <a:gridCol w="1425600"/>
              </a:tblGrid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8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9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óż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9 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w skali kraju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osób, które podjęły pracę za granicą u pracodawców zagranicz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- 17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tym liczba kob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11bd7"/>
                          </a:solidFill>
                          <a:latin typeface="Arial"/>
                        </a:rPr>
                        <a:t>(- 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estawienie zbiorcze z działalności agencji zatrudnienia w 2009 r. według grup zawodów w wyniku pośrednictwa pracy za granicą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2060640"/>
          <a:ext cx="8291520" cy="3581280"/>
        </p:xfrm>
        <a:graphic>
          <a:graphicData uri="http://schemas.openxmlformats.org/drawingml/2006/table">
            <a:tbl>
              <a:tblPr/>
              <a:tblGrid>
                <a:gridCol w="555480"/>
                <a:gridCol w="831960"/>
                <a:gridCol w="2844720"/>
                <a:gridCol w="1413000"/>
                <a:gridCol w="1406520"/>
                <a:gridCol w="12398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Sym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Nazwa grupy elementarnej zawo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Ogół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Kob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Mężczyź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rzy sprzętu elektroniczne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rodnicy, sadownicy i pokrew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ynierzy i pokrew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otnicy pomocniczy w rolnictwie i pokrew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wacze i pokrew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opatrzeniow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nicy produkcji roślinnej i zwierzęc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estawienie zbiorcze z działalności agencji zatrudnienia w 2009 r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– kraje, do których agencje kierowały obywateli pol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00000" y="2349360"/>
          <a:ext cx="7417080" cy="3961080"/>
        </p:xfrm>
        <a:graphic>
          <a:graphicData uri="http://schemas.openxmlformats.org/drawingml/2006/table">
            <a:tbl>
              <a:tblPr/>
              <a:tblGrid>
                <a:gridCol w="674640"/>
                <a:gridCol w="2705400"/>
                <a:gridCol w="1404720"/>
                <a:gridCol w="1400400"/>
                <a:gridCol w="123192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Nazwa kraj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Ogół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Kob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958ea"/>
                          </a:solidFill>
                          <a:latin typeface="Arial"/>
                        </a:rPr>
                        <a:t>Mężczyź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we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ka Czes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derla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elka Bryt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16:16Z</dcterms:created>
  <dc:creator>kkaszuba</dc:creator>
  <dc:description/>
  <dc:language>en-US</dc:language>
  <cp:lastModifiedBy>kkaszuba</cp:lastModifiedBy>
  <dcterms:modified xsi:type="dcterms:W3CDTF">2010-08-27T07:06:15Z</dcterms:modified>
  <cp:revision>35</cp:revision>
  <dc:subject/>
  <dc:title>AGENCJE ZATRUDNIENIA</dc:title>
</cp:coreProperties>
</file>