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6883560" cy="990756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089">
                <a:moveTo>
                  <a:pt x="4" y="0"/>
                </a:moveTo>
                <a:arcTo wR="4" hR="4" stAng="16200000" swAng="-5400000"/>
                <a:lnTo>
                  <a:pt x="0" y="31085"/>
                </a:lnTo>
                <a:arcTo wR="4" hR="4" stAng="10800000" swAng="-5400000"/>
                <a:lnTo>
                  <a:pt x="21596" y="3108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6883560" cy="990756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089">
                <a:moveTo>
                  <a:pt x="4" y="0"/>
                </a:moveTo>
                <a:arcTo wR="4" hR="4" stAng="16200000" swAng="-5400000"/>
                <a:lnTo>
                  <a:pt x="0" y="31085"/>
                </a:lnTo>
                <a:arcTo wR="4" hR="4" stAng="10800000" swAng="-5400000"/>
                <a:lnTo>
                  <a:pt x="21596" y="3108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6883560" cy="990756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089">
                <a:moveTo>
                  <a:pt x="4" y="0"/>
                </a:moveTo>
                <a:arcTo wR="4" hR="4" stAng="16200000" swAng="-5400000"/>
                <a:lnTo>
                  <a:pt x="0" y="31085"/>
                </a:lnTo>
                <a:arcTo wR="4" hR="4" stAng="10800000" swAng="-5400000"/>
                <a:lnTo>
                  <a:pt x="21596" y="3108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6883560" cy="990756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089">
                <a:moveTo>
                  <a:pt x="4" y="0"/>
                </a:moveTo>
                <a:arcTo wR="4" hR="4" stAng="16200000" swAng="-5400000"/>
                <a:lnTo>
                  <a:pt x="0" y="31085"/>
                </a:lnTo>
                <a:arcTo wR="4" hR="4" stAng="10800000" swAng="-5400000"/>
                <a:lnTo>
                  <a:pt x="21596" y="3108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6883560" cy="990612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084">
                <a:moveTo>
                  <a:pt x="4" y="0"/>
                </a:moveTo>
                <a:arcTo wR="4" hR="4" stAng="16200000" swAng="-5400000"/>
                <a:lnTo>
                  <a:pt x="0" y="31080"/>
                </a:lnTo>
                <a:arcTo wR="4" hR="4" stAng="10800000" swAng="-5400000"/>
                <a:lnTo>
                  <a:pt x="21596" y="3108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6883560" cy="990432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9904320"/>
              <a:gd name="textAreaBottom" fmla="*/ 9903960 h 9904320"/>
            </a:gdLst>
            <a:ahLst/>
            <a:rect l="textAreaLeft" t="textAreaTop" r="textAreaRight" b="textAreaBottom"/>
            <a:pathLst>
              <a:path w="21600" h="31078">
                <a:moveTo>
                  <a:pt x="5" y="0"/>
                </a:moveTo>
                <a:arcTo wR="5" hR="5" stAng="16200000" swAng="-5400000"/>
                <a:lnTo>
                  <a:pt x="0" y="31073"/>
                </a:lnTo>
                <a:arcTo wR="5" hR="5" stAng="10800000" swAng="-5400000"/>
                <a:lnTo>
                  <a:pt x="21595" y="3107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85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8960" bIns="489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98800" y="-360"/>
            <a:ext cx="2973600" cy="485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8960" bIns="48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966600" y="743040"/>
            <a:ext cx="4941720" cy="37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8960" bIns="489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9040" y="4705200"/>
            <a:ext cx="5495760" cy="444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9407160"/>
            <a:ext cx="2973240" cy="485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98800" y="9407160"/>
            <a:ext cx="2973600" cy="485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8960" bIns="489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708A9-B9D9-4A43-820E-1C9705FAA660}" type="slidenum">
              <a:rPr b="0" lang="pl-P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47680" y="743040"/>
            <a:ext cx="45878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66960" y="743040"/>
            <a:ext cx="49482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66960" y="743040"/>
            <a:ext cx="49482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66960" y="743040"/>
            <a:ext cx="49482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66960" y="743040"/>
            <a:ext cx="49482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66960" y="743040"/>
            <a:ext cx="49482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66960" y="743040"/>
            <a:ext cx="49482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66960" y="743040"/>
            <a:ext cx="49482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651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651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651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651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651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651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651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651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651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651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66960" y="743040"/>
            <a:ext cx="49482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66960" y="743040"/>
            <a:ext cx="49482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97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25D-07A0-4B24-B18F-2A9F098F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3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5AC-3C58-4D25-86C2-9B58778E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064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B15-FEE3-4D36-B3BD-68A357C2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7480" y="198072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7760" y="198072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7480" y="419220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7760" y="419220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A94-9A84-4D04-97C9-418FFDA0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21A2-BCCE-4D09-BF12-C68BCA37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3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2C72-F1F3-4E26-916D-8605BB4A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80A7-5DE2-4265-97C4-5080F095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DA7F-9B35-410E-B45C-28896AC2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5A8C-F247-4AE5-8550-C1A93118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43CB-4CFA-4513-A6AE-67863A0A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0237-B93B-495B-BFCF-A0D58AE2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3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C5C-64EE-4564-AE24-1E41A00D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064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70FA-2D4C-43E1-B829-9FADE970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3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6955-70B9-469D-89F1-C273EEF1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3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4C83-4A14-4683-BF7C-0BAE5A81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064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77C5-AC24-4483-9D25-5BD6791B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7480" y="198072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7760" y="198072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7480" y="419220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7760" y="419220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B013-9D6E-4DAD-A33D-420C1249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090DE-B598-43EC-836B-2F2A5785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3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D50F2-1FCE-42C5-9DB4-21931C9A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7362E-0C8B-4C69-87E4-A1064DB7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9E03D-AD8E-4CCB-AF19-FD95B226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19D38-BC8A-4EF6-9E4B-B4FA1F90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AE8-C1CA-4057-B70D-DF7E50A1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52EBA-B041-4C52-86D0-5C6B8BEF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43A80-032C-4D4E-AC17-94E750B2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064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88636-D780-45EB-9050-929D2A29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3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F70BF-13DE-4E4E-A26B-3FAB3E8C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3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891E6-C872-4DC3-8EBA-2794BDA9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064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C77AC-16EE-457A-B2BE-BF91ECC0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7480" y="198072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17760" y="198072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7480" y="419220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17760" y="419220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F0081-7D3F-4F4C-9C7E-F9CC6608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9977C-E0DC-4778-A22E-038BB1E5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3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FA06-15FA-43D3-B0B7-C99913BE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9EC7-F7DE-4EC2-9D75-4D3C4908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28F-B531-4852-AFFC-7661A339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DE34F-7380-455D-8E51-5AE0AAAA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2657F-F88A-4CCA-9A45-B431A5AB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F6D7-B9DD-4702-91C9-2E3D32F6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28AB8-397C-495C-B623-F40271CF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064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3B27D-EF55-4EBF-8EBB-074BEB81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3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DB938-4F8E-4FAF-BE5A-FA0FF7AA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3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89CF-2BB7-4C6B-A680-9CDDA0A1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064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21C9B-1D08-45B3-AAC1-886D1B4F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7480" y="198072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17760" y="198072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7480" y="419220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17760" y="4192200"/>
            <a:ext cx="2647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BE01-0D33-49BE-992D-2E4F4340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013-A809-420C-9240-E15149B7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82C-E715-417B-85E3-83B0133C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235-E057-457A-872B-65708065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0640" y="419220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AE1-3292-45CE-AE27-57ECBBA6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3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7C8-F4A3-4FA9-907D-537E15CB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7520" cy="6927480"/>
            <a:chOff x="0" y="0"/>
            <a:chExt cx="9137520" cy="6927480"/>
          </a:xfrm>
        </p:grpSpPr>
        <p:sp>
          <p:nvSpPr>
            <p:cNvPr id="1" name=""/>
            <p:cNvSpPr/>
            <p:nvPr/>
          </p:nvSpPr>
          <p:spPr>
            <a:xfrm>
              <a:off x="0" y="3499200"/>
              <a:ext cx="3988440" cy="31237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56400"/>
              <a:ext cx="3350520" cy="254592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0280" y="5126400"/>
              <a:ext cx="5816880" cy="14950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600"/>
              <a:ext cx="1544400" cy="18914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55120" y="1080"/>
              <a:ext cx="4077360" cy="359172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89720" y="1080"/>
              <a:ext cx="34664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0920" y="5440680"/>
              <a:ext cx="504540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94680"/>
              <a:ext cx="913752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394680"/>
              <a:ext cx="9137520" cy="5328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3752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7840" y="363240"/>
              <a:ext cx="5055120" cy="320904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000" y="464760"/>
              <a:ext cx="3401280" cy="283284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48680" y="2742480"/>
              <a:ext cx="4486680" cy="375012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0480" y="2948760"/>
              <a:ext cx="3431520" cy="30664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27612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240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3465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Wojewódzki Urząd Pracy w Olszty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243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feeea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92B1D-108B-466D-A798-8F9A91DAA502}" type="slidenum">
              <a:rPr b="0" lang="pl-PL" sz="1400" spc="-1" strike="noStrike">
                <a:solidFill>
                  <a:srgbClr val="feeea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37520" cy="6927480"/>
            <a:chOff x="0" y="0"/>
            <a:chExt cx="9137520" cy="6927480"/>
          </a:xfrm>
        </p:grpSpPr>
        <p:sp>
          <p:nvSpPr>
            <p:cNvPr id="61" name=""/>
            <p:cNvSpPr/>
            <p:nvPr/>
          </p:nvSpPr>
          <p:spPr>
            <a:xfrm>
              <a:off x="0" y="3499200"/>
              <a:ext cx="3988440" cy="31237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56400"/>
              <a:ext cx="3350520" cy="254592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0280" y="5126400"/>
              <a:ext cx="5816880" cy="14950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600"/>
              <a:ext cx="1544400" cy="18914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55120" y="1080"/>
              <a:ext cx="4077360" cy="359172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89720" y="1080"/>
              <a:ext cx="34664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0920" y="5440680"/>
              <a:ext cx="504540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394680"/>
              <a:ext cx="913752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394680"/>
              <a:ext cx="9137520" cy="5328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3752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7840" y="363240"/>
              <a:ext cx="5055120" cy="320904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000" y="464760"/>
              <a:ext cx="3401280" cy="283284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8680" y="2742480"/>
              <a:ext cx="4486680" cy="375012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0480" y="2948760"/>
              <a:ext cx="3431520" cy="30664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630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240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243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623BD3-D4D3-4D6D-9881-774E06D290C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6937FD-FC15-41DC-8741-40C71B46F226}" type="slidenum">
              <a:rPr b="0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9140400" cy="542520"/>
            <a:chOff x="0" y="0"/>
            <a:chExt cx="9140400" cy="542520"/>
          </a:xfrm>
        </p:grpSpPr>
        <p:sp>
          <p:nvSpPr>
            <p:cNvPr id="122" name=""/>
            <p:cNvSpPr/>
            <p:nvPr/>
          </p:nvSpPr>
          <p:spPr>
            <a:xfrm>
              <a:off x="0" y="0"/>
              <a:ext cx="285480" cy="5299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560" y="134280"/>
              <a:ext cx="8727840" cy="271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9320" y="134280"/>
              <a:ext cx="137520" cy="1389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7200" y="134280"/>
              <a:ext cx="139320" cy="13896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" y="271800"/>
              <a:ext cx="136080" cy="1375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1400" y="135720"/>
              <a:ext cx="140760" cy="1375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9320" y="270360"/>
              <a:ext cx="137520" cy="1375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" y="406440"/>
              <a:ext cx="136080" cy="13608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3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4360" y="6093000"/>
          <a:ext cx="1439640" cy="54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6093000"/>
                    <a:ext cx="14396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948360" y="6165720"/>
            <a:ext cx="1308240" cy="476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284720" y="6237360"/>
            <a:ext cx="574560" cy="35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0"/>
            <a:ext cx="9140400" cy="6854760"/>
            <a:chOff x="0" y="0"/>
            <a:chExt cx="9140400" cy="6854760"/>
          </a:xfrm>
        </p:grpSpPr>
        <p:sp>
          <p:nvSpPr>
            <p:cNvPr id="175" name=""/>
            <p:cNvSpPr/>
            <p:nvPr/>
          </p:nvSpPr>
          <p:spPr>
            <a:xfrm>
              <a:off x="0" y="0"/>
              <a:ext cx="3504600" cy="685476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15760" y="1689840"/>
              <a:ext cx="7424640" cy="253296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0" y="1066320"/>
              <a:ext cx="2861280" cy="3151440"/>
              <a:chOff x="0" y="1066320"/>
              <a:chExt cx="2861280" cy="3151440"/>
            </a:xfrm>
          </p:grpSpPr>
          <p:sp>
            <p:nvSpPr>
              <p:cNvPr id="178" name=""/>
              <p:cNvSpPr/>
              <p:nvPr/>
            </p:nvSpPr>
            <p:spPr>
              <a:xfrm>
                <a:off x="572040" y="3578760"/>
                <a:ext cx="575280" cy="6390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12160" y="1688040"/>
                <a:ext cx="571680" cy="642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76280" y="1066320"/>
                <a:ext cx="585000" cy="6343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37960" y="3578760"/>
                <a:ext cx="581760" cy="639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76280" y="1688040"/>
                <a:ext cx="585000" cy="642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37960" y="2320920"/>
                <a:ext cx="581760" cy="6310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2320920"/>
                <a:ext cx="579960" cy="6310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12160" y="2320920"/>
                <a:ext cx="571680" cy="63108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2040" y="2944080"/>
                <a:ext cx="575280" cy="642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37960" y="2944080"/>
                <a:ext cx="581760" cy="642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5F82535-D55B-469A-925A-525DFDDC7A20}" type="slidenum">
              <a:rPr b="0" lang="pl-P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3440" cy="22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95280" y="2349360"/>
            <a:ext cx="81374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229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lsztyn, 7 maja 2010 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08720" y="4149720"/>
            <a:ext cx="34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dddddd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476280"/>
            <a:ext cx="8640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mpleksowość wsparcia oferowane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sobom pozostającym bez zatrudnien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rzez Europejski Fundusz Społecz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na przykładzie Poddziałania 6.1.1 PO K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e szczególnym uwzględnieniem usługi pośrednictwa pra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Arial"/>
              </a:rPr>
              <a:t>Bartosz Szurmińsk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ojewódzki Urząd Pracy w Olsztyn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ECF67-0C3E-4807-BD86-4EE606A2BB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2803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Średnia stopa bezrobocia dla województwa warmińsko-mazurskiego (stan na 31.12.2009) wyniosła 20,2%. Powiaty, których stopa bezrobocia jest wyższa od średniej stopy dla województwa warmińsko- mazurskiego to: Braniewski 31,9%; Bartoszycki 33,7%; Kętrzyński 27,5%; Węgorzewski 27,8%; Gołdapski 25,2%; Elbląski 24,8%; Lidzbarski 27,1%; Ostródzki 23,4%; Mrągowski 22,3%; Olecki 21,9%; Ełcki 23,6%; Piski 31,2%; Działdowski 24,8%; Szczycieński 25,1%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owyższe oznacza, iż obszar realizacji projektu powinien dotyczyć wyłącznie wskazanych wyżej powiatów, w których stopa bezrobocia jest wyższa niż średnia stopa bezrobocia dla województwa warmińsko-mazurskiego wg stanu na dzień 31.12.2009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CC72D-1412-42EB-9A32-74F1EA05F0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186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zczegółowe kryteria strategiczne c.d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jekt jest komplementarny z inwestycjami zrealizowanymi bądź planowanymi do realizacji na terenie województwa warmińsko – mazurskiego finansowanymi ze środków Unii Europejskiej innych niż E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 spełnienie, tego kryterium przyznawana była premia w wysokości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5 pun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33B47-3017-473C-8EA7-AA57FD148BC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66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66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remię punktową za spełnienie przedmiotowego kryterium mogą otrzymać te wnioski o dofinansowanie, których wnioskodawcy wykażą komplementarność podejmowanych w projekcie działań z działaniami podejmowanymi w innym projekcie współfinansowanym ze środków wspólnotowych. Wnioskodawca powinien wskazać konkretne działania w obu projektach, które są względem siebie komplementarne, tytuł projektu który był lub będzie współfinansowany z innych niż EFS źródeł wspólnotowych oraz wskazać przedmiotowe źródło finansowania. W przypadku projektów indywidualnych bądź systemowych przesłanką do zapewnienia komplementarności z tymi projektami jest umieszczenie przedmiotowych projektów na liście projektów indywidualnych bądź w odpowiednim dokumencie planistyczno-operacyjnym (odpowiedniku Planu działania w PO KL). W  przypadku projektów konkursowych, z którym  wniosek o dofinansowanie w ramach PO KL może być komplementarny, należy uznać, iż "inwestycja planowana do realizacji" opisana została w projekcie zakwalifikowanym do dofinansowania na liście rankingowej lub posiadającym podpisaną umową/wydaną decyzję o dofinansowan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5A62F-9C24-4AC6-B2D4-5F0C94395B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457200"/>
            <a:ext cx="7643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zczegółowe kryteria strategiczne c.d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jekt przewiduje cross-financing z przeznaczeniem na dostosowanie obiektów do potrzeb osób niepełnosprawnych, jednocześnie w grupie docelowej 10% osób stanowią osoby niepełnospraw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 spełnienie, tego kryterium przyznawana była premia w wysokości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5 punktów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F8D8C-A040-4360-A2E1-F9090D4D3E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zczegółowe kryteria strategiczne c.d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5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 najmniej 10% liczby uczestników projektu stanowią osoby, które utraciły zatrudnienie z przyczyn dotyczących pracodawcy począwszy od 01.01.2009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 spełnienie, tego kryterium przyznawana była premia w wysokości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5 punktów.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EE3E3-FCB0-4FDF-ABAD-C5951AA149D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zczegółowe kryteria strategiczne c.d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ramach projektu realizowane są szkolenia kształcące pracowników na potrzeby następujących obszarów: rolno-spożywczego; meblarsko-drzewnego; turystycznego (w tym hotelarstwo i gastronomia); budowlanego (w tym budownictwo drogowe), spawalnictwie, usługach dla starzejącego się społeczeństwa, produkcji wyrobów stolarskich i ciesielskich dla budownictwa, produkcji meb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 spełnienie, tego kryterium przyznawana była premia w wysokości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5 punkt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CDC44-9E8B-4DBE-BF77-F557CFC3E9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remię punktową za spełnienie tego kryterium strategicznego mogą otrzymać projekty, w ramach których realizowane jest </a:t>
            </a:r>
            <a:r>
              <a:rPr b="0" i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przynajmniej jedno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szkolenie kształcące pracowników na potrzeby obszarów określonych w ww. kryterium.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W przypadku opracowania IPD dla 100% uczestników projektu istnieje możliwość uzyskania premii punktowej za spełnienie powyższego kryterium strategicznego wówczas, gdy wnioskodawca w projekcie założy realizację przynajmniej jednego szkolenia kształcącego pracowników na potrzeby obszarów określonych w ww. kryterium oraz dodatkowo innych szkoleń zawodowych, których tematyka będzie uzależniona od wyników opracowanego IP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7E7AA-FF65-480C-BE9D-87C41B59100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11280" y="1038240"/>
            <a:ext cx="37432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1" lang="pl-PL" sz="2600" spc="-1" strike="noStrike">
                <a:solidFill>
                  <a:srgbClr val="003399"/>
                </a:solidFill>
                <a:latin typeface="Bookman Old Style"/>
              </a:rPr>
              <a:t> </a:t>
            </a: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Typ beneficjentó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569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szystkie podmiot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wyłączeniem powiatowych urzędów pracy oraz osób fizycz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04796-2158-4AAD-8388-29AC12AF957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58920" y="404640"/>
            <a:ext cx="691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Bookman Old Style"/>
              </a:rPr>
              <a:t> </a:t>
            </a: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Grupa docelow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907920"/>
            <a:ext cx="8785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4960" indent="-80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8049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78840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8049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7884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soby pozostające bez zatrudnienia (w tym osoby zarejestrowane jako bezrobotne lub poszukujące pracy), w szczególności oso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cc9900"/>
              </a:buClr>
              <a:buFont typeface="Wingdings" charset="2"/>
              <a:buChar char=""/>
              <a:tabLst>
                <a:tab algn="l" pos="8049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78840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soby pozostające bez zatrudnienia przez okres co najmniej 12 miesięcy w ciągu ostatnich dwóch la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cc9900"/>
              </a:buClr>
              <a:buFont typeface="Wingdings" charset="2"/>
              <a:buChar char=""/>
              <a:tabLst>
                <a:tab algn="l" pos="8049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78840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kobiety (w tym zwłaszcza powracające oraz wchodzące po raz pierwszy na rynek pracy po przerwie związanej z urodzeniem i wychowaniem dziec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cc9900"/>
              </a:buClr>
              <a:buFont typeface="Wingdings" charset="2"/>
              <a:buChar char=""/>
              <a:tabLst>
                <a:tab algn="l" pos="8049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78840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soby do 25 roku życ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cc9900"/>
              </a:buClr>
              <a:buFont typeface="Wingdings" charset="2"/>
              <a:buChar char=""/>
              <a:tabLst>
                <a:tab algn="l" pos="8049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78840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soby niepełnospraw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cc9900"/>
              </a:buClr>
              <a:buFont typeface="Wingdings" charset="2"/>
              <a:buChar char=""/>
              <a:tabLst>
                <a:tab algn="l" pos="8049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78840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soby  po 45 roku życ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cc9900"/>
              </a:buClr>
              <a:buFont typeface="Wingdings" charset="2"/>
              <a:buChar char=""/>
              <a:tabLst>
                <a:tab algn="l" pos="804960"/>
                <a:tab algn="l" pos="1252440"/>
                <a:tab algn="l" pos="1701720"/>
                <a:tab algn="l" pos="2151000"/>
                <a:tab algn="l" pos="2600280"/>
                <a:tab algn="l" pos="3049560"/>
                <a:tab algn="l" pos="3498840"/>
                <a:tab algn="l" pos="3948120"/>
                <a:tab algn="l" pos="4397400"/>
                <a:tab algn="l" pos="4846680"/>
                <a:tab algn="l" pos="5295960"/>
                <a:tab algn="l" pos="5745240"/>
                <a:tab algn="l" pos="6194520"/>
                <a:tab algn="l" pos="6643800"/>
                <a:tab algn="l" pos="7093080"/>
                <a:tab algn="l" pos="7542360"/>
                <a:tab algn="l" pos="7991640"/>
                <a:tab algn="l" pos="8440560"/>
                <a:tab algn="l" pos="8889840"/>
                <a:tab algn="l" pos="9339120"/>
                <a:tab algn="l" pos="978840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soby pozostające bez zatrudnienia zamieszkujące w gminach wiejskich i miejsko – wiejskich oraz mieszkańcy miast do 25 tys. mieszkańców zamierzające podjąć zatrudnienie w zawodach pozarolniczych (niezwiązanych z produkcją rolną i zwierzęc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4352E-F26A-4475-9676-8A70FFAC4BA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310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560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Podsumowanie konkur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560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560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 dnia 8 lutego 2010 r. (początek naboru) do dnia       19 lutego 2010 r.  wpłynęły łącznie 124 wnioski.             W wyniku oceny formalnej na posiedzenie KOP przekazano wszystkie złożone wnioski, które zostały następnie ocenione merytorycz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560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560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P przyznała punkty 78 wnioskom (pozytywne niefinansowane oraz ocenione negatywnie), z czego zarekomendowała do dofinansowania 20 projek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560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560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6 wniosków zostało odrzuconych w części A karty oceny merytorycznej  - 3 za niespełnianie kryteriów horyzontalnych i 43 za niespełnianie kryteriów dostę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41EE9-2092-4D9B-A690-9C58B429608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401760"/>
            <a:ext cx="84945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Działanie 6.1 Poprawa dostępu do zatrudnienia </a:t>
            </a:r>
            <a:br>
              <a:rPr sz="2800"/>
            </a:b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oraz wspieranie aktywności zawodowej</a:t>
            </a:r>
            <a:br>
              <a:rPr sz="2800"/>
            </a:b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 w regi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280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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ddziałanie 6.1.1 – Wspieranie osób pozostających bez zatrudnienia na regionalnym rynku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Konkurs otwarty Nr I/POKL/6.1.1/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stępna kwota: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17 500 000,00 z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rmin ogłoszenia: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1 lutego 2010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BE15A-84CC-4AB2-9F15-F225E7F7FCD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3104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 algn="ctr">
              <a:spcBef>
                <a:spcPts val="799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560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ctr">
              <a:spcBef>
                <a:spcPts val="799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560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560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800" spc="-1" strike="noStrike">
                <a:solidFill>
                  <a:srgbClr val="000000"/>
                </a:solidFill>
                <a:latin typeface="Arial"/>
              </a:rPr>
              <a:t>www.up.gov.pl/pok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12ACC-FF88-435A-8AB5-8FB91A3F4D9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19080"/>
            <a:ext cx="72360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Typ projektu możliwy do realizacji w ramach konkur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423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dentyfikacja potrzeb osób pozostających bez zatrudnienia, np. poprzez IP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warsztatów oraz szkoleń z zakresu technik aktywnego poszukiwania pracy oraz nabywania kompetencji kluczow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arcie psychologiczno - doradcze osób wchodzących i powracających na rynek pra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4F6D3-FC20-4348-A247-336E798956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19080"/>
            <a:ext cx="7164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Typ projektu możliwy do realizacji w ramach konkursu c.d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4232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średnictwo pracy i/lub poradnictwo zawodow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że/praktyki zawodow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zkolenia prowadzące do podniesienia, uzupełnienia lub zmiany kwalifikacji zawodow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ieranie wolontaria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C5037-29FA-41CB-9E59-B5542BB3C9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2000" y="34560"/>
            <a:ext cx="70912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Typ projektu możliwy do realizacji w ramach konkursu c.d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3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-8049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ieranie inicjatyw na rzecz podnoszenia mobilności geograficznej (regionalnej i międzyregionalnej) osób pozostających bez zatrudnien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arcie doradczo- szkoleniowe pracownika, który uzyskał zatrudnienie w ramach projektu prowadzące do jego adaptacji w miejscu pracy (wsparcie pomostow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razowe dodatki relokacyjne (mobilnościowe) dla pracow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E5B85-77E7-407F-A861-361A6B4240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-34920"/>
            <a:ext cx="35290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1" lang="pl-PL" sz="2600" spc="-1" strike="noStrike">
                <a:solidFill>
                  <a:srgbClr val="003399"/>
                </a:solidFill>
                <a:latin typeface="Bookman Old Style"/>
              </a:rPr>
              <a:t> </a:t>
            </a: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Kryteria dostęp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61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Grupę docelową projektu stanowią osoby zamieszkujące na terenie województwa warmińsko-mazurski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Beneficjent w okresie realizacji projektu prowadzi biuro projektu (lub posiada siedzibę/filię/oddział) na terenie województwa warmińsko- mazurskiego, z dostępną pełną dokumentacją wdrażanego projektu oraz z kluczowym personelem realizującym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, oprócz szkolenia zawodowego, moduł z obsługi komputera i/ lub nauki języka obc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osiągnięcie wskaźnika efektywności zatrudnienia na poziomie co najmniej 15 % w okresie do 3 miesięcy od zakończenia udziału w projek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4408C-0480-4CEA-9B2C-1FB156225E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11280" y="-81000"/>
            <a:ext cx="4897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3399"/>
                </a:solidFill>
                <a:latin typeface="Bookman Old Style"/>
              </a:rPr>
              <a:t> </a:t>
            </a: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Kryteria dostępu c.d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jekt ukierunkowany jest na kompleksowe wsparcie dla osób poprzez zastosowanie łącznie co najmniej 3 instrumentów wsparcia w odniesieniu do każdego uczestnika projektu, w tym szkolenia zawodowego oraz pośrednictwa pracy. Jednocześnie projekt przewiduje opracowanie IPD dla co najmniej 50% uczestników (minimalny zakres powinien zawierać np. warsztaty z zakresu technik aktywnego poszukiwania pracy + szkolenie zawodowe + pośrednictwo pracy+ IPD; szkolenie zawodowe +staż+ pośrednictwo pracy +IP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Beneficjent składa maksymalnie 3 wnioski w ramach 1 rundy danego konkursu dla Poddziałania 6.1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4960" indent="-804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57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Maksymalny okres realizacji projektu wynosi 15 miesięcy (rozpoczęcie w 2010 rok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79A4B-AF7B-4AC8-B4C6-B2C2906581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zczegółowe kryteria strategicz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jekt w 100% obejmuje wsparciem osoby z jednej z poniższych kategorii: osoby w wieku 45 -64 lata ( w tym w co najmniej 80% w wieku 50-64 lata) lub osoby w wieku 15-24 lat. Jednocześnie wsparcie jest dostosowane do specyficznych potrzeb grupy docelowej (w tym m.in. poprzez zastosowanie modelowych programów szkoleniowych wypracowanych na podstawie zwalidowanych rezultatów PIW EQUA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 spełnienie, tego kryterium przyznawana była premia w wysokości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0 punkt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41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4CB88-605C-45E4-99C8-CCAE847A82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2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zczegółowe kryteria strategiczne c.d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jekt w 100% jest skierowany do mieszkańców powiatu/powiatów, w którym/ch stopa bezrobocia jest wyższa od średniej stopy dla województwa warmińsko mazurskiego (wg stanu na 31.12.2009r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 spełnienie, tego kryterium przyznawana była premia w wysokości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0 punkt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F29D4-B0C0-4F78-8D12-5924C9A1056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woja nazwa użytkownika</dc:creator>
  <dc:description/>
  <dc:language>en-US</dc:language>
  <cp:lastModifiedBy>kkaszuba</cp:lastModifiedBy>
  <dcterms:modified xsi:type="dcterms:W3CDTF">2010-08-30T07:32:58Z</dcterms:modified>
  <cp:revision>1</cp:revision>
  <dc:subject/>
  <dc:title> </dc:title>
</cp:coreProperties>
</file>